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1C716-63CA-4394-88DF-E8B3312F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E494A-77BE-4C64-805A-4815DE7C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3A6BA-CB62-49F5-BE1C-0587AA3F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D4F32-5B39-463D-82A5-3874DF97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6CE8A-9613-4A21-B4AB-E25C1F6E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1BC58-9DFE-4712-B13C-25C75884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CE2E1-C29D-4024-810C-41850892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E488A-0E81-461B-8F36-772AE867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63BA1-E4BA-44A7-8F5C-24E79EB9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76D36-7777-4711-8823-D667E932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6F78E-93B9-443D-8CBF-71155C04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1DBF59-FF2D-450C-AA9B-89088A37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BFB0-E99B-41E5-9E7F-2771F1D8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1844E0-C90B-4B74-98D7-0B3DF60C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36CCF6-7099-4CE9-AB33-AD5763D2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EC1F5A-7826-4F90-8EC2-51B88C1D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4234DE-A4AB-4C94-B586-D193B242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5B6075-8C47-41D8-A32A-AF6170D3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3EAEA4-CD71-48CA-B683-3DA68560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E2C9ED-4777-4765-8AB9-767ECA71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DDB434-CA41-4E1C-B6EE-95800C87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0FDA8A-1FB6-448D-AD81-6E58DCCC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766131-200B-419A-A5AD-B6BEE593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005D-A402-4A7A-9DDE-4178D6B7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BE999E-A44E-4EF1-9F1C-901E6F34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BEBB9-E5D6-4D0B-9736-467B4D40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6AD28-A8C5-4DCD-AAF5-10A7E5D6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30911-B0E3-4944-8C44-B2C9887A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989C0-C192-4088-AB23-44B93BE2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EF367-7E76-4C97-8FBC-FE3DFF01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C4128-8DD5-4AA3-9BB5-6331C02C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81D30-7CBB-43DE-BE8A-58C0AC9A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6078E-D3A3-4ED2-88B3-4A0A62D4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88CED-ADC6-4926-BADF-975C0B13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ED9E-91DB-4266-802D-4E57DEED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7812A-8447-4580-ADB2-0CAAB1D0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332B7-312D-4A30-9776-522D872F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10416-0020-455D-AAD5-0A564A77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FACDC-FFCE-4237-A2FB-C4673C44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E7E0C-EC5F-46FB-91B3-6F0C55A0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3F8B7-515E-4AE8-B694-C6B76CC5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E20D2-CC17-4DAB-951A-EF4103C5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9AF0E-533A-4C82-98E2-29783858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2ACD9-28FB-4D56-9CC7-F8368247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27036-7309-4240-9860-C56443D6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12D1-BE2E-40C7-80EC-40DD21FA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091F4-5BA5-45D9-946C-8CF7D8DF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0B999-4DBF-4444-ADF0-AFC78413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FF029-8DE8-40F9-920B-E7797571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FCECE-C654-405C-AA4A-0B9073B5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D906D-96DD-4D32-B766-5B05700F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1694-3B5E-40BA-9F57-2F4C272F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563D-E8F0-4E8B-8B0A-BB20C17D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2CBA-98EC-4AD5-832D-8CDC48E0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78DA-5889-4965-AF69-3A90852B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89FA-D248-4136-991E-D3681137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1539D-36B2-4469-B01A-180693B0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C1B5-0A90-47A9-A025-0957E12C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754E-EBF1-4618-8D69-6EED1FFB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8A58-9619-4170-AE31-42BDD834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E69E-8279-473A-9954-21265992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2835-22EE-4A68-A805-08587664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3397E-9A0A-4DB9-B339-3E9C239B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02EDC-056B-4464-ABA7-9F1A767C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4E69B-5B06-4BBA-AD5E-584CEF61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32FDA-D46C-4EF5-AF90-B1E954A2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1DB6C-FF3D-469F-A28D-D5FDF83B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3FF93-2935-4917-A332-7391AE44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97DAE-4937-406D-992C-17297D92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4D59D-B349-4151-B405-21FF16B6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F4D71-F526-4F02-AD32-CAF67666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4AB59-821D-457F-A59F-643A6582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0BD1A-877C-4CFD-B3E0-3FF9AB7E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FB15A-3CBB-49B8-93DB-EF2464F5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82B97-B427-448C-9965-0B2F645E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63335-C67B-4249-B3F2-44C4A8A1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DD741-2E7A-4E72-B26E-61C130AF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57198-670B-4605-8053-E5D8E1E1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2AF5-23CE-43F0-BFB6-F14A8544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55718-EF7F-4076-8EA5-A8154A59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10D20-66D4-4F4B-9F1E-A2938812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A45B4-5519-4A98-B244-5B3A446E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56BF2-4C8A-4E49-8558-829712D7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86C10-2169-4055-9284-378A3656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26DE6-B743-4796-A612-0D0A444E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AD3C6-C965-4397-B633-E26DE008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F43E1-85C6-434C-BEA7-21A2FC73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EE21A-AE29-4B21-8107-418D4D8C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65EFC-B9F2-44B9-9D9C-6F3E202C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6B753-9FF7-45F7-BB6B-49FAECAB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E05D1-04F4-49D4-833C-E8EA6FB6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0BE74-75AD-48CD-9A3F-30BECB43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56AC7-2B02-4C7E-AB00-C87E40D4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EAE81-6732-41E3-9578-A7A61DB7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E5606-DA67-4AE2-BA8E-61E9A6FB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28CF7-B2BB-4E3A-A555-13D711AE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5AEB4-444C-4756-BC3C-02143121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71858-AE92-452C-972D-D09688D1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75660-8045-4E4B-8BBA-B492AE6D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19381-4E83-40F9-A9A8-BD7FA5D1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B94F-CCC4-4ED7-8D3D-F64BCB6D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54B6C-053D-4B94-B54A-0217FDE4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2926F-2254-4086-BC11-2AE3088B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95971-D12D-4851-AF20-3532A8B6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BA1B5-954D-460C-B7BD-F15F3D3B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97CC3-D69F-43E8-929E-BEF9C24F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029D2-A363-4FDD-9BC1-0271B328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A042F-E26A-4CB3-A4CF-431F4548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9071B-2E35-456C-82C7-4E75CCA0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FEF8C-87E7-4465-B23D-A7B7400C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A7851-0770-4E63-AB64-B1D810F4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BE70-6A66-4C84-A52F-D6D31893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29FEC-7255-4776-96F3-E2DBAF1B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F94F7-2048-4350-9AF0-F0A59882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E8F42-F6BE-43FB-8240-1EB7BEAB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CA19B-7895-4A9B-80B0-4B612B6D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19C45-E589-4E13-82F7-267341E1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255BB-1541-4F00-A7B6-048D070A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27043-0AC9-48B9-B49D-927A72BA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AE233-7207-43DC-8D54-D5ECE1D6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2E909-EB6C-435E-9AFE-113E1514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90531-2AAB-4C70-83DA-B8F9994D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614A5-EC01-49B9-BDB3-D4FF2B24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B3DA7-5AB4-4232-8E07-87454CD3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A32B8-3146-4428-AB4E-8544035C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DEFE9-FF85-4C3F-8BAC-452D2195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541D8-B3A3-439D-8E61-7B6825DD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8BA47-FE5C-42B3-9457-1ECFC0E5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CE682-3C7C-4319-AF5E-E35EF7B9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0DBE5-5F6C-45C5-9342-A5518B0F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73D11-F0AB-497A-B8B9-27973600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09FE4-D342-46D5-8EF6-A13E49F4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EEB01-6EF4-45AD-9012-9068C332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A7C0A-28D6-456A-92FE-622EFF4F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90BDF-8E4C-4333-8D06-E254A919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D34E8-2C00-4746-B60C-C284AA95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9D284-04A4-430A-9767-A97F3447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349D2-E9F3-4F68-B52D-4C57F108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32A7F-E64B-4282-AE64-163E39E0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FDFD0-59AA-479D-9A5B-64F506AB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E25B0-429A-424A-B03F-EF974411D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AB964-77C8-450F-B3B8-A5D64434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27A5F-8334-4F3D-8D97-455C20FF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AF4B0-3D53-4EEF-B43A-E4BC51A7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9586-24B9-4F16-8D93-E988539850A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9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A9AD-BD3B-4984-8B77-2B3C9DDB081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30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64CB-40D8-4369-953D-C82895D3DF2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7F8E-4B24-47EE-8BD5-7FD36FA0837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2497-29AD-45DC-9FDA-26BC8B2222B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440E-A515-4496-ADF8-CFE82E62DA8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AD65-4B2C-498F-AA84-043F4F287BC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0DD6-94FF-4516-A841-6A11D8544C0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1E3B-6543-4AA9-BD28-2DE7FEA4DC9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673F-96ED-455C-9F46-33A88BBB6E6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9723-E3EA-4E7A-B9FF-344C5F7C235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A01F-C0A8-44C8-86DF-2A18660A323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5c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8" descr="/News Rotator/CBO Students.jpg"/>
          <p:cNvPicPr/>
          <p:nvPr/>
        </p:nvPicPr>
        <p:blipFill>
          <a:blip r:embed="rId1"/>
          <a:stretch/>
        </p:blipFill>
        <p:spPr>
          <a:xfrm>
            <a:off x="0" y="285840"/>
            <a:ext cx="8485200" cy="6364080"/>
          </a:xfrm>
          <a:prstGeom prst="rect">
            <a:avLst/>
          </a:prstGeom>
          <a:ln w="0">
            <a:noFill/>
          </a:ln>
        </p:spPr>
      </p:pic>
      <p:pic>
        <p:nvPicPr>
          <p:cNvPr id="517" name="TextBox 2" descr=""/>
          <p:cNvPicPr/>
          <p:nvPr/>
        </p:nvPicPr>
        <p:blipFill>
          <a:blip r:embed="rId2"/>
          <a:stretch/>
        </p:blipFill>
        <p:spPr>
          <a:xfrm>
            <a:off x="0" y="176040"/>
            <a:ext cx="9144000" cy="2322720"/>
          </a:xfrm>
          <a:prstGeom prst="rect">
            <a:avLst/>
          </a:prstGeom>
          <a:ln w="0">
            <a:noFill/>
          </a:ln>
        </p:spPr>
      </p:pic>
      <p:pic>
        <p:nvPicPr>
          <p:cNvPr id="518" name="TextBox 3" descr=""/>
          <p:cNvPicPr/>
          <p:nvPr/>
        </p:nvPicPr>
        <p:blipFill>
          <a:blip r:embed="rId3"/>
          <a:stretch/>
        </p:blipFill>
        <p:spPr>
          <a:xfrm>
            <a:off x="0" y="1755720"/>
            <a:ext cx="90583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75e47"/>
                </a:solidFill>
                <a:latin typeface="Cambria"/>
              </a:rPr>
              <a:t>Guaranteed and Viable Curriculum and Assessments: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Guaranteed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tudents have access to th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same essential learning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gardless of who is teaching the cour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Viabl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earning Targets can b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effectively taught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n the time allott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is practice promotes a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higher level of Equity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all students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an we create a “Stop Doing List”? 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99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at current content can be eliminated because it is not essential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99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en and where can this be implemented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Five Guiding Questions for our Course Team Work: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constant collective inquiry into the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Five Guiding Questions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s a professional responsibility for every educato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What do we want our students to know and be able to do? (GQ1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know if our students are successful? (GQ2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respond when students are not successful? (GQ3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help students grow in their own learning? (GQ4)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create effective learning environments for all our students? (GQ5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e Focus of our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urse Team Work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What do we want our students to know and be able to do?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GQ1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Teacher Focus: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Each Course Team will establish </a:t>
            </a: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Core Student Learning Targets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which provide the foundation for content, skills and process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Student Focus: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We will work to ensure that our students fully understand and monitor their own learning target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e Focus of our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urse Team Work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know if our students are successful?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GQ2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Teacher Focus: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Each Course Team will establish common indicators for success and </a:t>
            </a: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Common Formative Assessment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o authentically determine student achievement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Student Focus: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We will work to ensure that our students engage in assessments that clearly inform their level of performance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e Focus of our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urse Team Work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respond when students are not successful? (GQ3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2f2b20"/>
                </a:solidFill>
                <a:uFillTx/>
                <a:latin typeface="Calibri"/>
              </a:rPr>
              <a:t>Teacher Focus: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Each Course Team will </a:t>
            </a: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Analyze Student Work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n order to make adjustments to daily instruction (</a:t>
            </a: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Classroom Interventions)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eading to improved student achievement. (</a:t>
            </a: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Responsive Teaching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2f2b20"/>
                </a:solidFill>
                <a:uFillTx/>
                <a:latin typeface="Calibri"/>
              </a:rPr>
              <a:t>Student Focus: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We will work to ensure that our students fully understand how to re-learn, re-study or re-work to improve their level of achievement. </a:t>
            </a: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(Learning Adjustment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mmon Formative Assessments (CFA)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ne of the most powerful, high-leverage strategies for improving student learning available to schools is the creation of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frequent, common, high-quality formative assessment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y teachers who are working collaboratively to help a group of students develop agreed-upon knowledge and skills.”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(Fullan, Reeves, Schmoker, Stiggin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wo Types of Assessments…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Summativ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Like an </a:t>
            </a: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Autopsy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;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plains why the student failed but the information comes too lat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sessment </a:t>
            </a: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of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Lear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Measures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many things infrequentl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Formativ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Like a </a:t>
            </a: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Physical Exam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;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rovides timely information to help a struggling learner or enrich a successful learn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sessment</a:t>
            </a:r>
            <a:r>
              <a:rPr b="0" i="1" lang="en-US" sz="20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for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Lear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Measures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few things frequentl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FAs and Course Teams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mmon Formative Assessments… Benefits…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r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more efficient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an those created by individual teacher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r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more equitable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studen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ccess to the same curriculum and targe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mmon pac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n determine if a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guaranteed curriculum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s being learn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Informs the practice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of individual teacher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n seek assistance from teammat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uilds a team’s ability to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improve overall progra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acilitates a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ollective timely response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struggling learners (interventions)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Protocol for Common Formative Assessments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reate Common Formative Assessmen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ycl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(One per quarter… Simple CFA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ign each CFA to a Learning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arget(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termine the appropriate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Method of Assessmen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ecify the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Proficiency Standard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or each CF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dminister the assessmen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nsistentl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view the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Student Performance Dat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termine how to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Respond to the Dat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Re-Teach and Re-Asses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s necessar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e “4</a:t>
            </a:r>
            <a:r>
              <a:rPr b="0" lang="en-US" sz="4600" spc="-1" strike="noStrike" baseline="30000">
                <a:solidFill>
                  <a:srgbClr val="675e47"/>
                </a:solidFill>
                <a:latin typeface="Cambria"/>
              </a:rPr>
              <a:t>th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 R”… is Responsiv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ading, ‘Riting, and ‘Rithmatic… the 3 R’s of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Yesterd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igor, Relevance, and Relationships… the 3 R’s of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d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re is a 4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R fo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morrow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… it i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Responsiv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f2b20"/>
                </a:solidFill>
                <a:latin typeface="Calibri"/>
              </a:rPr>
              <a:t>Responsive Teaching is Equitable Teaching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reate a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System of Responsive Teaching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y using CFA Cycle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view Student Performance Dat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djust our Teach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djust our Students’ Learning Practic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e are better at CFA Cycles when they are Common…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earn from each oth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upport each oth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Title 1" descr=""/>
          <p:cNvPicPr/>
          <p:nvPr/>
        </p:nvPicPr>
        <p:blipFill>
          <a:blip r:embed="rId1"/>
          <a:stretch/>
        </p:blipFill>
        <p:spPr>
          <a:xfrm>
            <a:off x="457200" y="-55440"/>
            <a:ext cx="7656480" cy="2017440"/>
          </a:xfrm>
          <a:prstGeom prst="rect">
            <a:avLst/>
          </a:prstGeom>
          <a:ln w="0">
            <a:noFill/>
          </a:ln>
        </p:spPr>
      </p:pic>
      <p:pic>
        <p:nvPicPr>
          <p:cNvPr id="520" name="Content Placeholder 2" descr=""/>
          <p:cNvPicPr/>
          <p:nvPr/>
        </p:nvPicPr>
        <p:blipFill>
          <a:blip r:embed="rId2"/>
          <a:stretch/>
        </p:blipFill>
        <p:spPr>
          <a:xfrm>
            <a:off x="433440" y="1603440"/>
            <a:ext cx="76438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 Shift is Taking Place…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very person associated with student learning may need to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re-define his or her role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… those comfortable working i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isolation will need to work collaboratively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… those accustom to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rding authority will need to share i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… and people who have operated under certai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assumption may be asked to change them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” </a:t>
            </a:r>
            <a:r>
              <a:rPr b="0" i="1" lang="en-US" sz="1600" spc="-1" strike="noStrike">
                <a:solidFill>
                  <a:srgbClr val="2f2b20"/>
                </a:solidFill>
                <a:latin typeface="Calibri"/>
              </a:rPr>
              <a:t>Learning by Doing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urse Teams, Learning Targets and Common Formative Assessments are not just programs to implement, but instead, are a part of an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ongoing proces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o bring about significan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ntinuous improvement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o our teaching and learning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 Shift in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Fundamental Purpose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rom a focus on Teaching…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o a focus on Learn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rom an emphasis on what is taught…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o a fixation on what students have learn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rom the coverage of content…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o a demonstration of proficienc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rom individual teacher establishing curriculum documents…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o engaging with collaborative teams to build essential learning targe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 Shift in the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ork of Teachers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isolation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collabor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only co-planning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lso co-assess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“collaboration lite” on matters unrelated to student achievement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collaboration explicitly focused on issues that directly impact student achievemen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each teacher assigning priority to curriculum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collaborative teams establishing priority of learning targe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each teacher determining their own pacing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collaborative teams agreeing on common pac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privatization of practice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open sharing of practic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an assumption that these are “my kids, and those are your kids”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n assumption that these are “our kids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 Shift in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Use of Assessment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infrequent summative assessments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frequent common formative assessm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assessments to determine which students failed to learn by the deadline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ssessments to identify students in need of additional time and suppo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assessments used to reward and punish students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ssessments use to inform and motivate stud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assessing many things infrequently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ssessing a few things frequentl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 Shift in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Use of Assessment: (con’t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individual teacher assessments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ssessments developed jointly by tea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each teacher determining the criteria used in assessing student work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teams clarifying the criteria and ensuring consistency when assessing student wor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an over-reliance on one kind of assessment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 balanced use of assessm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focusing on average scores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monitoring each student’s proficiency in every essential learning targe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f2b20"/>
                </a:solidFill>
                <a:latin typeface="Calibri"/>
              </a:rPr>
              <a:t>Learning by Doing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75e47"/>
                </a:solidFill>
                <a:latin typeface="Cambria"/>
              </a:rPr>
              <a:t>So, the Organization of our Work is a follows…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Mission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s to Create an Equitable School that Improves Achievement for All Stud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Strategy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s to Strengthen and Enrich our Curriculu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Goal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s to establish a  Guaranteed and Viable Learning Experience for All Stud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ongoing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Work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s answering the Five Guiding Question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Professional Development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s offered through meeting the ongoing needs of our Course Tea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current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Focu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s on Common Learning Targets and Common Formative Assessment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Vehicle for Action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s the Course Team…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It Just Makes Sense…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It just makes sense that a school committed to helping All Students Learn…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focus on learning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ther than teach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ensure students hav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access to the same curricul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assess each student on a timely basis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reate systematic responses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rovide additional time and suppor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accomplish more working collaboratively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ther than in isol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assess our effectiveness on the basis of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student resul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f2b20"/>
                </a:solidFill>
                <a:latin typeface="Calibri"/>
              </a:rPr>
              <a:t>Learning by Doing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urse Teams as the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Vehicles for Actio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The question before us is not…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What do we need to know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in order to improve?”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but rather it is…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Will we turn what we already know into </a:t>
            </a:r>
            <a:r>
              <a:rPr b="1" i="1" lang="en-US" sz="3600" spc="-1" strike="noStrike">
                <a:solidFill>
                  <a:srgbClr val="2f2b20"/>
                </a:solidFill>
                <a:latin typeface="Calibri"/>
              </a:rPr>
              <a:t>ACTION</a:t>
            </a: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?”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42800" y="731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75e47"/>
                </a:solidFill>
                <a:latin typeface="Cambria"/>
              </a:rPr>
              <a:t>Objectives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711000" y="1160640"/>
            <a:ext cx="755316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Improve performance and raise achievement for ALL student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2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Eliminate the predictability and disproportionality 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of students who are in the highest and lowest achieving groups (racial, socio-economic, gender and disability).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2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Provide opportunity/access for ALL students 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by examining and eliminating barriers that impact participation.  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Cambria"/>
              </a:rPr>
              <a:t>District 113 Equity Belief Statements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n terms of equity, we believe tha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All students must have access to resources, opportunities and  rigorous curriculum that ensure their succes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lationships form the foundation of an equitable school district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chool does not have to look the same for each and every student and employee and,  outcomes can still be high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We must work together to eliminate racial, socio-economic and gender predictability within our system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 world class education requires racial consciousness , cross-cultural &amp; disability  awareness and gender equity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We must measure our progress toward making these beliefs a reality to ensure that “all means all”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Oval 3"/>
          <p:cNvSpPr/>
          <p:nvPr/>
        </p:nvSpPr>
        <p:spPr>
          <a:xfrm>
            <a:off x="2109960" y="992160"/>
            <a:ext cx="4555800" cy="45561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Freeform 7"/>
          <p:cNvSpPr/>
          <p:nvPr/>
        </p:nvSpPr>
        <p:spPr>
          <a:xfrm>
            <a:off x="4314960" y="1325520"/>
            <a:ext cx="1973160" cy="2889360"/>
          </a:xfrm>
          <a:custGeom>
            <a:avLst/>
            <a:gdLst>
              <a:gd name="textAreaLeft" fmla="*/ 0 w 1973160"/>
              <a:gd name="textAreaRight" fmla="*/ 1973520 w 197316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74" h="260">
                <a:moveTo>
                  <a:pt x="150" y="260"/>
                </a:moveTo>
                <a:cubicBezTo>
                  <a:pt x="165" y="234"/>
                  <a:pt x="174" y="204"/>
                  <a:pt x="174" y="174"/>
                </a:cubicBezTo>
                <a:cubicBezTo>
                  <a:pt x="174" y="77"/>
                  <a:pt x="96" y="0"/>
                  <a:pt x="0" y="0"/>
                </a:cubicBezTo>
                <a:lnTo>
                  <a:pt x="0" y="174"/>
                </a:lnTo>
                <a:lnTo>
                  <a:pt x="150" y="260"/>
                </a:lnTo>
                <a:close/>
              </a:path>
            </a:pathLst>
          </a:custGeom>
          <a:solidFill>
            <a:srgbClr val="d565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Freeform 8"/>
          <p:cNvSpPr/>
          <p:nvPr/>
        </p:nvSpPr>
        <p:spPr>
          <a:xfrm>
            <a:off x="2602080" y="3259080"/>
            <a:ext cx="3412800" cy="1924200"/>
          </a:xfrm>
          <a:custGeom>
            <a:avLst/>
            <a:gdLst>
              <a:gd name="textAreaLeft" fmla="*/ 0 w 3412800"/>
              <a:gd name="textAreaRight" fmla="*/ 3413160 w 3412800"/>
              <a:gd name="textAreaTop" fmla="*/ 0 h 1924200"/>
              <a:gd name="textAreaBottom" fmla="*/ 1924560 h 1924200"/>
            </a:gdLst>
            <a:ahLst/>
            <a:rect l="textAreaLeft" t="textAreaTop" r="textAreaRight" b="textAreaBottom"/>
            <a:pathLst>
              <a:path w="30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cubicBezTo>
                  <a:pt x="213" y="173"/>
                  <a:pt x="270" y="140"/>
                  <a:pt x="301" y="86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Freeform 9"/>
          <p:cNvSpPr/>
          <p:nvPr/>
        </p:nvSpPr>
        <p:spPr>
          <a:xfrm>
            <a:off x="2346480" y="1325520"/>
            <a:ext cx="1984320" cy="28893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75" h="260">
                <a:moveTo>
                  <a:pt x="174" y="0"/>
                </a:moveTo>
                <a:cubicBezTo>
                  <a:pt x="78" y="0"/>
                  <a:pt x="1" y="77"/>
                  <a:pt x="1" y="173"/>
                </a:cubicBezTo>
                <a:cubicBezTo>
                  <a:pt x="0" y="204"/>
                  <a:pt x="9" y="234"/>
                  <a:pt x="24" y="260"/>
                </a:cubicBezTo>
                <a:lnTo>
                  <a:pt x="175" y="174"/>
                </a:lnTo>
                <a:lnTo>
                  <a:pt x="174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11"/>
          <p:cNvSpPr/>
          <p:nvPr/>
        </p:nvSpPr>
        <p:spPr>
          <a:xfrm>
            <a:off x="2730600" y="1728720"/>
            <a:ext cx="171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engthen Relationshi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13"/>
          <p:cNvSpPr/>
          <p:nvPr/>
        </p:nvSpPr>
        <p:spPr>
          <a:xfrm>
            <a:off x="4211640" y="1725480"/>
            <a:ext cx="171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crease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pac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14"/>
          <p:cNvSpPr/>
          <p:nvPr/>
        </p:nvSpPr>
        <p:spPr>
          <a:xfrm>
            <a:off x="4570560" y="3095640"/>
            <a:ext cx="197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15"/>
          <p:cNvSpPr/>
          <p:nvPr/>
        </p:nvSpPr>
        <p:spPr>
          <a:xfrm>
            <a:off x="3325680" y="3660840"/>
            <a:ext cx="171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engthen and Enrich Curricul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16"/>
          <p:cNvSpPr/>
          <p:nvPr/>
        </p:nvSpPr>
        <p:spPr>
          <a:xfrm>
            <a:off x="2757600" y="4943520"/>
            <a:ext cx="230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WordArt 17"/>
          <p:cNvSpPr txBox="1"/>
          <p:nvPr/>
        </p:nvSpPr>
        <p:spPr>
          <a:xfrm>
            <a:off x="2843280" y="1200240"/>
            <a:ext cx="2943000" cy="165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067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675e47"/>
                  </a:solidFill>
                  <a:miter/>
                </a:ln>
                <a:solidFill>
                  <a:srgbClr val="675e47"/>
                </a:solidFill>
                <a:latin typeface="Arial"/>
              </a:rPr>
              <a:t>Culture—The Day-to-Day Experience </a:t>
            </a:r>
            <a:endParaRPr b="0" lang="en-US" sz="2800" spc="1" strike="noStrike">
              <a:ln w="9360">
                <a:solidFill>
                  <a:srgbClr val="675e47"/>
                </a:solidFill>
                <a:miter/>
              </a:ln>
              <a:solidFill>
                <a:srgbClr val="675e47"/>
              </a:solidFill>
              <a:latin typeface="Arial"/>
              <a:ea typeface="Arial"/>
            </a:endParaRPr>
          </a:p>
        </p:txBody>
      </p:sp>
      <p:sp>
        <p:nvSpPr>
          <p:cNvPr id="535" name="WordArt 20"/>
          <p:cNvSpPr txBox="1"/>
          <p:nvPr/>
        </p:nvSpPr>
        <p:spPr>
          <a:xfrm rot="21448800">
            <a:off x="2854440" y="3660480"/>
            <a:ext cx="3020760" cy="170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381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675e47"/>
                  </a:solidFill>
                  <a:miter/>
                </a:ln>
                <a:solidFill>
                  <a:srgbClr val="675e47"/>
                </a:solidFill>
                <a:latin typeface="Arial"/>
              </a:rPr>
              <a:t>Culture—The Day-to-Day Experience</a:t>
            </a:r>
            <a:endParaRPr b="0" lang="en-US" sz="2800" spc="1" strike="noStrike">
              <a:ln w="9360">
                <a:solidFill>
                  <a:srgbClr val="675e47"/>
                </a:solidFill>
                <a:miter/>
              </a:ln>
              <a:solidFill>
                <a:srgbClr val="675e47"/>
              </a:solidFill>
              <a:latin typeface="Arial"/>
              <a:ea typeface="Arial"/>
            </a:endParaRPr>
          </a:p>
        </p:txBody>
      </p:sp>
      <p:sp>
        <p:nvSpPr>
          <p:cNvPr id="536" name="Text Box 21"/>
          <p:cNvSpPr/>
          <p:nvPr/>
        </p:nvSpPr>
        <p:spPr>
          <a:xfrm>
            <a:off x="493560" y="147600"/>
            <a:ext cx="7788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400" spc="-1" strike="noStrike">
                <a:solidFill>
                  <a:srgbClr val="f68b32"/>
                </a:solidFill>
                <a:latin typeface="Arial"/>
              </a:rPr>
              <a:t>Strategies to Achieve Equity and Improve Achievement for All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22"/>
          <p:cNvSpPr/>
          <p:nvPr/>
        </p:nvSpPr>
        <p:spPr>
          <a:xfrm>
            <a:off x="2666880" y="2417760"/>
            <a:ext cx="13687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ong students staff, teacher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ents and 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23"/>
          <p:cNvSpPr/>
          <p:nvPr/>
        </p:nvSpPr>
        <p:spPr>
          <a:xfrm>
            <a:off x="4479840" y="2363760"/>
            <a:ext cx="18082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ledge, skills an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around equity, race, cross-cultural, gender, socio-economic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disability issue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24"/>
          <p:cNvSpPr/>
          <p:nvPr/>
        </p:nvSpPr>
        <p:spPr>
          <a:xfrm>
            <a:off x="3325680" y="4122720"/>
            <a:ext cx="22240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ing into account pedagogy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room strategies, content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dback, and assess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Freeform 9"/>
          <p:cNvSpPr/>
          <p:nvPr/>
        </p:nvSpPr>
        <p:spPr>
          <a:xfrm rot="20688600">
            <a:off x="263520" y="1244160"/>
            <a:ext cx="1984320" cy="28893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75" h="260">
                <a:moveTo>
                  <a:pt x="174" y="0"/>
                </a:moveTo>
                <a:cubicBezTo>
                  <a:pt x="78" y="0"/>
                  <a:pt x="1" y="77"/>
                  <a:pt x="1" y="173"/>
                </a:cubicBezTo>
                <a:cubicBezTo>
                  <a:pt x="0" y="204"/>
                  <a:pt x="9" y="234"/>
                  <a:pt x="24" y="260"/>
                </a:cubicBezTo>
                <a:lnTo>
                  <a:pt x="175" y="174"/>
                </a:lnTo>
                <a:lnTo>
                  <a:pt x="174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Freeform 7"/>
          <p:cNvSpPr/>
          <p:nvPr/>
        </p:nvSpPr>
        <p:spPr>
          <a:xfrm>
            <a:off x="6603840" y="1058760"/>
            <a:ext cx="1973520" cy="2889360"/>
          </a:xfrm>
          <a:custGeom>
            <a:avLst/>
            <a:gdLst>
              <a:gd name="textAreaLeft" fmla="*/ 0 w 1973520"/>
              <a:gd name="textAreaRight" fmla="*/ 1973880 w 197352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74" h="260">
                <a:moveTo>
                  <a:pt x="150" y="260"/>
                </a:moveTo>
                <a:cubicBezTo>
                  <a:pt x="165" y="234"/>
                  <a:pt x="174" y="204"/>
                  <a:pt x="174" y="174"/>
                </a:cubicBezTo>
                <a:cubicBezTo>
                  <a:pt x="174" y="77"/>
                  <a:pt x="96" y="0"/>
                  <a:pt x="0" y="0"/>
                </a:cubicBezTo>
                <a:lnTo>
                  <a:pt x="0" y="174"/>
                </a:lnTo>
                <a:lnTo>
                  <a:pt x="150" y="260"/>
                </a:lnTo>
                <a:close/>
              </a:path>
            </a:pathLst>
          </a:custGeom>
          <a:solidFill>
            <a:srgbClr val="d565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Freeform 8"/>
          <p:cNvSpPr/>
          <p:nvPr/>
        </p:nvSpPr>
        <p:spPr>
          <a:xfrm>
            <a:off x="5038560" y="4597560"/>
            <a:ext cx="3413160" cy="1923840"/>
          </a:xfrm>
          <a:custGeom>
            <a:avLst/>
            <a:gdLst>
              <a:gd name="textAreaLeft" fmla="*/ 0 w 3413160"/>
              <a:gd name="textAreaRight" fmla="*/ 3413520 w 3413160"/>
              <a:gd name="textAreaTop" fmla="*/ 0 h 1923840"/>
              <a:gd name="textAreaBottom" fmla="*/ 1924200 h 1923840"/>
            </a:gdLst>
            <a:ahLst/>
            <a:rect l="textAreaLeft" t="textAreaTop" r="textAreaRight" b="textAreaBottom"/>
            <a:pathLst>
              <a:path w="30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cubicBezTo>
                  <a:pt x="213" y="173"/>
                  <a:pt x="270" y="140"/>
                  <a:pt x="301" y="86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22"/>
          <p:cNvSpPr/>
          <p:nvPr/>
        </p:nvSpPr>
        <p:spPr>
          <a:xfrm>
            <a:off x="493560" y="2320920"/>
            <a:ext cx="16812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xual Harass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y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torative Just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end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2"/>
          <p:cNvSpPr/>
          <p:nvPr/>
        </p:nvSpPr>
        <p:spPr>
          <a:xfrm>
            <a:off x="6603840" y="1884240"/>
            <a:ext cx="1959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vention Strateg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ce/Equ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al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22"/>
          <p:cNvSpPr/>
          <p:nvPr/>
        </p:nvSpPr>
        <p:spPr>
          <a:xfrm>
            <a:off x="5940360" y="5275440"/>
            <a:ext cx="2156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rg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ve &amp; Summ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5892840" y="4865760"/>
            <a:ext cx="171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engthen and Enrich Curricul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1"/>
          <p:cNvSpPr/>
          <p:nvPr/>
        </p:nvSpPr>
        <p:spPr>
          <a:xfrm>
            <a:off x="539640" y="1719360"/>
            <a:ext cx="171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engthen Relationshi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3"/>
          <p:cNvSpPr/>
          <p:nvPr/>
        </p:nvSpPr>
        <p:spPr>
          <a:xfrm>
            <a:off x="6230880" y="1319040"/>
            <a:ext cx="171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crease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pac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64960" y="231480"/>
            <a:ext cx="862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75e47"/>
                </a:solidFill>
                <a:latin typeface="Cambria"/>
              </a:rPr>
              <a:t>Strategy 3: Strengthen and Enrich Curriculum </a:t>
            </a:r>
            <a:br>
              <a:rPr sz="900"/>
            </a:br>
            <a:r>
              <a:rPr b="0" lang="en-US" sz="1400" spc="-1" strike="noStrike">
                <a:solidFill>
                  <a:srgbClr val="675e47"/>
                </a:solidFill>
                <a:latin typeface="Cambria"/>
              </a:rPr>
              <a:t>Characteristics of Effective District 113 Educators</a:t>
            </a:r>
            <a:endParaRPr b="0" lang="en-US" sz="1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6840" y="1385640"/>
            <a:ext cx="8255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8b32"/>
                </a:solidFill>
                <a:latin typeface="Calibri"/>
              </a:rPr>
              <a:t>Goal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3.1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Teachers will develop core learning targets (including content, process, and skills).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b08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3.2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Teachers will develop and implement common assessments to measure core learning targets.</a:t>
            </a:r>
            <a:br>
              <a:rPr sz="2000"/>
            </a:b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01600" y="136080"/>
            <a:ext cx="83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75e47"/>
                </a:solidFill>
                <a:latin typeface="Cambria"/>
              </a:rPr>
              <a:t>Strategy 3: Strengthen and Enrich Curriculum </a:t>
            </a:r>
            <a:br>
              <a:rPr sz="3500"/>
            </a:br>
            <a:r>
              <a:rPr b="0" lang="en-US" sz="1400" spc="-1" strike="noStrike">
                <a:solidFill>
                  <a:srgbClr val="675e47"/>
                </a:solidFill>
                <a:latin typeface="Cambria"/>
              </a:rPr>
              <a:t>Characteristics of Effective District 113 Educators</a:t>
            </a:r>
            <a:endParaRPr b="0" lang="en-US" sz="1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07800" y="1052640"/>
            <a:ext cx="8229600" cy="55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8b32"/>
                </a:solidFill>
                <a:latin typeface="Calibri"/>
              </a:rPr>
              <a:t>Goals</a:t>
            </a:r>
            <a:r>
              <a:rPr b="0" lang="en-US" sz="2200" spc="-1" strike="noStrike">
                <a:solidFill>
                  <a:srgbClr val="f68b32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3.3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Teachers will provide relevant, timely, and meaningful feedback that increases motivation and achievement of all students regardless of race, gender, disability and socio-economic statu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b08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3.4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Eliminate systemic barriers and provide the needed support to students to achieve their highest potential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8b32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3.5  Classroom practices will change as a result of implementing the Equity Action Pla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00"/>
              </a:spcBef>
              <a:buClr>
                <a:srgbClr val="a9a57c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e Collective Commitments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of our Work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ight and Loose”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chool culture can be simultaneously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tight </a:t>
            </a: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loose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Tigh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en addressing critical issues and certain task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 ensure consistency with principles and practic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Loo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ay-to-day implement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we all must act in order to achieve our Goals…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l teachers will b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ourse Teams participan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Guaranteed and Viable Curriculum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romotes a higher level of Equity for All Studen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l teachers will work to answer th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Five Guiding Questions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l Teachers will administer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ommon Formative Assessmen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196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75e47"/>
                </a:solidFill>
                <a:latin typeface="Cambria"/>
              </a:rPr>
              <a:t>Course Teams as the Vehicle for our Work: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orking together to build shared knowledge on the best way to achieve goals and meet the needs of clients is exactly what </a:t>
            </a:r>
            <a:r>
              <a:rPr b="1" i="1" lang="en-US" sz="2400" spc="-1" strike="noStrike">
                <a:solidFill>
                  <a:srgbClr val="2f2b20"/>
                </a:solidFill>
                <a:latin typeface="Calibri"/>
              </a:rPr>
              <a:t>professionals</a:t>
            </a: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any field are expected to do… whether it be to cure a patient, win a lawsuit or help all students to lear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e very essence of a learning community is a focus on and a commitment to the </a:t>
            </a:r>
            <a:r>
              <a:rPr b="1" i="1" lang="en-US" sz="2400" spc="-1" strike="noStrike">
                <a:solidFill>
                  <a:srgbClr val="2f2b20"/>
                </a:solidFill>
                <a:latin typeface="Calibri"/>
              </a:rPr>
              <a:t>learning of each studen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 course team is a collaborative group of educators who work </a:t>
            </a:r>
            <a:r>
              <a:rPr b="1" i="1" lang="en-US" sz="2400" spc="-1" strike="noStrike">
                <a:solidFill>
                  <a:srgbClr val="2f2b20"/>
                </a:solidFill>
                <a:latin typeface="Calibri"/>
              </a:rPr>
              <a:t>interdependently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to achieve common goals linked to the purpose of learning for all student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Learning by Do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3:53:52Z</dcterms:created>
  <dc:creator>Roberto Trinidad</dc:creator>
  <dc:description/>
  <dc:language>en-US</dc:language>
  <cp:lastModifiedBy>Swanson, Brad</cp:lastModifiedBy>
  <cp:lastPrinted>2012-06-13T15:45:36Z</cp:lastPrinted>
  <dcterms:modified xsi:type="dcterms:W3CDTF">2012-06-13T17:15:07Z</dcterms:modified>
  <cp:revision>488</cp:revision>
  <dc:subject/>
  <dc:title>Slide 1</dc:title>
</cp:coreProperties>
</file>