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EF3F-B786-4CED-9FD7-722D32E1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4603-3071-41CB-94FC-91B05912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6A377-614E-49EC-ADE5-5FA5E77B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FC325-F95B-4E59-8563-84E5D2C2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7028B-E048-4B9F-AE3C-CB92A6BE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39DD3-A09B-4600-93FC-8916722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E3048-922C-4AE2-B9EE-C7237261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06CFA-AB4D-486D-AECB-91531D3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D66CD-89CE-4140-88DA-84B966B0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7725F-6EDD-494E-BAE5-D9A06F9A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C9FB1-BFE5-4B7D-80F4-AD576CD7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8B1A88-B41D-4DAB-8C23-C973503C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5FEA-3649-42B9-A0FC-0B9C2E09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5585BF-137D-43BC-84AF-17F491C8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29166E-AFE8-47E3-8EE0-5380475E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4E9D32-DC9E-4255-9EF8-5E2A5507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7F9828-B7FD-44F0-8CE3-7084D6B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14E24A-E499-4F8C-A0C2-97D7191D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F1A5F5-1A46-4458-855E-A0FBD58D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A182D6-24E3-4D83-8415-13C904FD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BF3162-F081-48A3-9D6E-F38A4803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ACB0FE-4476-4C5B-80A3-44410AC8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DD12CB-B7DD-401E-8677-A28259F8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93AD-97D9-4232-8A86-2C296B73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8325AA-DD50-46B3-B40F-C771D1E0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04DDF-393F-4B66-BD73-40046F14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D6B1A-EDEF-41BB-92CF-2F28FC0C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123EA-94B4-44B9-A5F9-0611E27A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57EF7-6352-456C-A3BC-51A25B5A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86EBE-6A64-4036-90F7-BD1531B2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2BE01-9E06-4C6B-A949-35190DE1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0ADD1-218A-4E50-92EF-28CE8C87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1BBDD-7698-4928-84F7-9C36C6E5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42D4F-4140-42ED-9FE4-CF7B9170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3B33-949F-46F3-B831-78031A91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A16DA-6CF6-40BF-95C6-1245FA46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2509D-D0AF-4A5A-A90A-7F695879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26798-8406-4CF5-ADB2-D0577FF1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0F97E-D7BF-45A3-B5F4-CC8FC1DC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1DCF1-84C2-4F02-8AC1-565D0AC2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947B1-34BC-4DD7-87ED-4815723C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8C331-C172-4BF9-B3B9-3CE90EF8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27247-8370-4C67-98BC-F724C8E1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EA031-5E23-41F8-8DB3-B8789637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31B8C-92F2-476F-A47D-5E0313F4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67C6-7FCC-44F5-86D1-01D10D3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63795-8236-4810-B268-5FE30828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80D6C-6196-4E52-9677-D4CC38F9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85C43-0583-4677-B189-B239180F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259C6-BA1E-4145-8DCD-7F0125A2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EE50A-9C3E-487C-8C2B-BBE07ABA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BE33-84C2-447E-9157-0737E9B3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7661-5F8A-4CFE-8248-BD9065AD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3C51-63ED-45F5-8707-51DE979E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87D8-DE2D-4528-9AE1-F05EF706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184C-8022-4DAF-A0C5-4EC7F5D5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6DCE-2D08-4143-A827-467C2B81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0541-F381-4FCE-88B7-817B39AC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DFF8-1F2B-486E-A3A3-E0197E5A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BF5A-DA6D-409D-AFB0-2DEE4CDA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B865-794D-4E62-BFD9-BEF58EA4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3197-2C2F-4A7F-8C8C-EBA757F5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C1A0-0CE3-4469-BAD4-B97862C1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5816-E1E4-4E07-9CC0-2D27E35A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31D7-399F-47DC-80C7-9290D1E6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C687-7748-4FA1-8F8D-AE4911D4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A2DE-DDAB-4874-9251-130871C8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B303-D5EF-4A63-A019-61905427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A6D9-7875-46C8-844C-17563F62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EA6E-1039-43BE-9187-4F06AAC5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D971-3872-44A2-8910-62030A7B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25B0-60AB-412B-AA76-BDC66E6C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6253-C803-4F99-8049-2F4A3738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89E9-BC19-4586-96E8-C8656418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9491-2C6C-4D5B-BFD2-7D488C06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6E2CE-A965-4580-90AE-454D37F5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945A-6854-456E-B3F2-57077A18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EBB7-DB4A-4F89-BEE1-6E19317E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FC4E-BFD5-4FF2-A978-6CBB332C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18EED-4EC9-428B-A44A-B653BA0C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3E763-5123-4912-B5A2-B74E519A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6BBF4-C0D8-4185-82B4-591CBAD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8734C-2E02-4AE4-AB39-D4753D18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5ED4F-9B9D-4F33-BE66-825B6D12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C1ACC-A7D4-4291-99E4-1E6498A0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F1E6A-1B1D-4DA0-B3AC-EEF97F24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7FA7C-CC6D-458A-A9F9-23A41EF2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821A-D1E5-4754-A778-8AA01B35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08553-3616-4F1E-9DE9-342884C8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FA75-F210-45A0-9731-92B0256B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1F7E6-A1AD-491F-B2BB-6D9E53F6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7B8A-9ADD-4CD1-9881-A538BB1C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A28F-8CB2-4127-8DDE-C43E3D03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A37F1-3F56-43CB-977A-687FBA0F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BB807-C4C4-411B-B5EC-DF31188C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9AD07-5277-4833-BCDB-7D8439BB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A90A9-6E9E-43BE-B128-4E5A69CC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280C1-4B36-41A1-8806-81F45B46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4F341-059F-42AE-A8BF-B177EAF5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07D85-2BA9-4292-B6A3-7A0FB711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558F-AD4D-4CFF-B981-39C1CE26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4D607-5FEB-4029-9D85-7AF285D6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FAEE8-9A5D-4218-B67C-EE0514A1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66ECE-D5EF-4E48-A919-DD577531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D1F51-002B-4840-B8B0-9F07FFEE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73EDC-CDBE-48D9-AC4D-C5833E03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BAB0A-25E8-42EA-9428-B47A94B8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BF3B8-886E-48B9-8950-FA30F244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6075-D9DE-4172-AF08-D70F1803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3DA5F-6B0B-415B-BF2C-CE850F2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DE992-3EFD-419B-968E-68C8BBC4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4281-77A4-4CC4-AB56-AA470A9A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53ADC-BBCD-400C-A1A1-C71B60ED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9CC5-882D-454E-BC0A-C222FCC7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E0958-049F-4D77-B3EC-367EB47D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7E19A-78DB-4BA1-8B2F-C62AC9C8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DEC11-1094-4475-B2F5-6CEA50D2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BF4BD-816B-486B-A921-590C7DC0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018A-E088-461A-9B36-C5281A4A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4F3C9-4E43-4A64-8152-47998DF7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1CDD2-DC90-49D6-B134-8FBE6DAD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F68C3-0AA8-47B5-BB17-26028A17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20CB-E67A-4246-B7F3-89E85477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1CB41-CC75-4E0C-A3E4-A194E8A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1BBB-5D2C-4CFE-B975-5B05F994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F4762-C731-4081-A475-B5E010E7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EE10E-D180-43F5-9E4F-E30E9108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32ABF-65B5-47AB-85F7-84943F5D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A3B6F-A9F9-432E-A76E-93166DDA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B2623-34EE-4D21-B230-5FD5516F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C8433-0D72-45FE-B308-CD1FE15D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44C66-1F57-405F-B03A-FB25F8CD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A67D9-30DC-4A50-A6A2-744EA7B6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EAE5-66DA-47D0-8A4C-02C22CDE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A1F60-F5ED-4B1E-855F-DEF32625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F85EF-3037-43EB-BAE8-E36C1E2B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5F697-2586-44E7-B12A-4303DC31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F8A46-CFFB-4EA0-84CE-20E82BA5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2C6A3-6728-4BC2-ACFD-9C3DD4E7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5367E-ECC9-47CD-859C-585A41F0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DA0FF-9BEA-456B-B3E9-20533123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8F1FE-0CA4-450B-B27F-FDBBF6AB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96B72-CA1A-4F1B-B86F-36D07ED7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4CB79-8CEF-4E4A-AB9F-158F7E5D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EF1E-99CF-42AF-A8EE-2E02FD8A52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D7DE-F430-47FD-871F-2A082EB3C8D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3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BC9E-E208-4EFB-924B-E845C4A3EE5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8E0A-9000-4FFA-8A72-1EACCC1F1F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094D-EF39-411C-AF53-3F53F46432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FA92-71C3-4CDA-BFFD-E8C61DF2E1E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618D-81AE-41C1-93C8-CEA109440F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C5E5-46CA-49A1-9ADE-C0302BD131E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847C-AAF9-4F6B-9473-F568730CB44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77F0-3EF8-463F-B0B9-D92392A47A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CFAE-6E24-4953-B9C6-F605198498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B807-0E33-4685-8CAF-F1DC8535876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c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/News Rotator/CBO Students.jpg"/>
          <p:cNvPicPr/>
          <p:nvPr/>
        </p:nvPicPr>
        <p:blipFill>
          <a:blip r:embed="rId1"/>
          <a:stretch/>
        </p:blipFill>
        <p:spPr>
          <a:xfrm>
            <a:off x="0" y="285840"/>
            <a:ext cx="8485200" cy="6364080"/>
          </a:xfrm>
          <a:prstGeom prst="rect">
            <a:avLst/>
          </a:prstGeom>
          <a:ln w="0">
            <a:noFill/>
          </a:ln>
        </p:spPr>
      </p:pic>
      <p:pic>
        <p:nvPicPr>
          <p:cNvPr id="517" name="TextBox 2" descr=""/>
          <p:cNvPicPr/>
          <p:nvPr/>
        </p:nvPicPr>
        <p:blipFill>
          <a:blip r:embed="rId2"/>
          <a:stretch/>
        </p:blipFill>
        <p:spPr>
          <a:xfrm>
            <a:off x="0" y="176040"/>
            <a:ext cx="9144000" cy="2322720"/>
          </a:xfrm>
          <a:prstGeom prst="rect">
            <a:avLst/>
          </a:prstGeom>
          <a:ln w="0">
            <a:noFill/>
          </a:ln>
        </p:spPr>
      </p:pic>
      <p:pic>
        <p:nvPicPr>
          <p:cNvPr id="518" name="TextBox 3" descr=""/>
          <p:cNvPicPr/>
          <p:nvPr/>
        </p:nvPicPr>
        <p:blipFill>
          <a:blip r:embed="rId3"/>
          <a:stretch/>
        </p:blipFill>
        <p:spPr>
          <a:xfrm>
            <a:off x="0" y="1755720"/>
            <a:ext cx="905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Guaranteed and Viable Curriculum and Assessments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Guaranteed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have access to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ame essential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gardless of who is teaching the cour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iabl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ing Targets can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ffectively taugh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he time allott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is practice promo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higher level of Equit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all students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an we create a “Stop Doing List”?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current content can be eliminated because it is not essential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nd where can this be implemented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ive Guiding Questions for our Course Team Work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constant collective inquiry into th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a professional responsibility for every educato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help students grow in their own learning? (GQ4)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create effective learning environments for all our students? (GQ5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re Student Learning Target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which provide the foundation for content, skills and proces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and monitor their own learning targe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common indicators for success and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mmon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authentically determine student achievemen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engage in assessments that clearly inform their level of performan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Each Course Team will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Analyze Student 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order to make adjustments to daily instruction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Classroom Interventions)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ing to improved student achievement.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Responsive Teachin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how to re-learn, re-study or re-work to improve their level of achievement.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(Learning Adjustment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mmon Formative Assessments (CFA)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e of the most powerful, high-leverage strategies for improving student learning available to schools is the creation of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requent, common, high-quality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teachers who are working collaboratively to help a group of students develop agreed-upon knowledge and skills.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(Fullan, Reeves, Schmoker, Stiggin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wo Types of Assessments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um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n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utopsy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lains why the student failed but the information comes too la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of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any things in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or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Physical Exam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s timely information to help a struggling learner or enrich a successful learn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ew things 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FAs and Course Team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mmon Formative Assessments… Benefit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fficien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an those created by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quitabl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ccess to the same curriculum and targe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mmon pac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determine if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s being learn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nforms the practic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f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seek assistance from teamma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uilds a team’s ability to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mprove overall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cilita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llective timely respons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ruggling learners (interventions)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rotocol for Common Formative Assessment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e Common Formativ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ycl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One per quarter… Simple CF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ign each CFA to a Learnin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arget(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the appropriat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Method of Assessmen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y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roficiency Standard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r each CF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dminister th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sistentl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view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udent Performanc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how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spond to th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Teach and Re-Ass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necessar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“4</a:t>
            </a:r>
            <a:r>
              <a:rPr b="0" lang="en-US" sz="4600" spc="-1" strike="noStrike" baseline="30000">
                <a:solidFill>
                  <a:srgbClr val="675e47"/>
                </a:solidFill>
                <a:latin typeface="Cambria"/>
              </a:rPr>
              <a:t>th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R”… is Responsiv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ading, ‘Riting, and ‘Rithmatic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Yester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igor, Relevance, and Relationships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is a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R fo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morrow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… it i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sponsiv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f2b20"/>
                </a:solidFill>
                <a:latin typeface="Calibri"/>
              </a:rPr>
              <a:t>Responsive Teaching is Equitable Teachi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reate a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ystem of Responsive Teach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y using CFA Cycl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view Student Performance Dat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Students’ Learning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e are better at CFA Cycles when they are Common…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 from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upport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le 1" descr=""/>
          <p:cNvPicPr/>
          <p:nvPr/>
        </p:nvPicPr>
        <p:blipFill>
          <a:blip r:embed="rId1"/>
          <a:stretch/>
        </p:blipFill>
        <p:spPr>
          <a:xfrm>
            <a:off x="457200" y="-55440"/>
            <a:ext cx="7656480" cy="2017440"/>
          </a:xfrm>
          <a:prstGeom prst="rect">
            <a:avLst/>
          </a:prstGeom>
          <a:ln w="0">
            <a:noFill/>
          </a:ln>
        </p:spPr>
      </p:pic>
      <p:pic>
        <p:nvPicPr>
          <p:cNvPr id="520" name="Content Placeholder 2" descr=""/>
          <p:cNvPicPr/>
          <p:nvPr/>
        </p:nvPicPr>
        <p:blipFill>
          <a:blip r:embed="rId2"/>
          <a:stretch/>
        </p:blipFill>
        <p:spPr>
          <a:xfrm>
            <a:off x="433440" y="1603440"/>
            <a:ext cx="7643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s Taking Plac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very person associated with student learning may need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define his or her role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comfortable working 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solation will need to work collaborative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accustom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rding authority will need to share 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and people who have operated under certa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ssumption may be asked to change them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” </a:t>
            </a: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urse Teams, Learning Targets and Common Formative Assessments are not just programs to implement, but instead, are a part of an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ongoing proc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bring about significa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inuous improvemen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our teaching and learning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undamental Purpose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 focus on Teaching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ocus on Lear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n emphasis on what is taugh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ixation on what students have learn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the coverage of conten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demonstration of proficienc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individual teacher establishing curriculum documents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engaging with collaborative teams to build essential learning targe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ork of Teacher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solation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only co-plann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lso co-assess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“collaboration lite” on matters unrelated to student achieve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 explicitly focused on issues that directly impact student achieve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assigning priority to curriculum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establishing priority of learning targe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ir own pac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agreeing on common pac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privatization of practic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open sharing of practic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assumption that these are “my kids, and those are your kids”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n assumption that these are “our kids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frequent summative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frequent common formative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to determine which students failed to learn by the deadlin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to identify students in need of additional time and supp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used to reward and punish stud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use to inform and motivate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ing many things infrequently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ing a few things frequentl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 (con’t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dividual teacher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developed jointly by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 criteria used in assessing student work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teams clarifying the criteria and ensuring consistency when assessing student wo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over-reliance on one kind of assess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 balanced use of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focusing on average score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monitoring each student’s proficiency in every essential learning targ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So, the Organization of our Work is a follows…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iss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Create an Equitable School that Improves Achievement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trategy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Strengthen and Enrich our Curriculu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establish a  Guaranteed and Viable Learning Experience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ongoing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answering the Five Guiding Ques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fessional Development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offered through meeting the ongoing needs of our Course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curren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oc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on Common Learning Targets and Common Formative Assessment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hicle for Actio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the Course Team…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t Just Makes Sens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t just makes sense that a school committed to helping All Students Learn…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ocus on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ensure students hav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ess to the same curricul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ssess each student on a timely basi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reate systematic response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 additional time and suppo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omplish more working collaborativel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in isol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assess our effectiveness on the basis of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tudent resul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s as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ehicles for Actio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question before us is not…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hat do we need to know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in order to improve?”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ut rather it is…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ill we turn what we already know into </a:t>
            </a:r>
            <a:r>
              <a:rPr b="1" i="1" lang="en-US" sz="3600" spc="-1" strike="noStrike">
                <a:solidFill>
                  <a:srgbClr val="2f2b20"/>
                </a:solidFill>
                <a:latin typeface="Calibri"/>
              </a:rPr>
              <a:t>ACTION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?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731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Objectives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11000" y="1160640"/>
            <a:ext cx="755316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Improve performance and raise achievement for ALL studen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Eliminate the predictability and disproportionality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f students who are in the highest and lowest achieving groups (racial, socio-economic, gender and disability)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vide opportunity/access for ALL student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by examining and eliminating barriers that impact participation. 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District 113 Equity Belief Statement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erms of equity, we believe tha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All students must have access to resources, opportunities and  rigorous curriculum that ensure their succes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lationships form the foundation of an equitable school district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does not have to look the same for each and every student and employee and,  outcomes can still be high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work together to eliminate racial, socio-economic and gender predictability within our system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world class education requires racial consciousness , cross-cultural &amp; disability  awareness and gender equit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measure our progress toward making these beliefs a reality to ensure that “all means all”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Oval 3"/>
          <p:cNvSpPr/>
          <p:nvPr/>
        </p:nvSpPr>
        <p:spPr>
          <a:xfrm>
            <a:off x="2109960" y="992160"/>
            <a:ext cx="4555800" cy="45561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Freeform 7"/>
          <p:cNvSpPr/>
          <p:nvPr/>
        </p:nvSpPr>
        <p:spPr>
          <a:xfrm>
            <a:off x="4314960" y="1325520"/>
            <a:ext cx="1973160" cy="288936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2602080" y="3259080"/>
            <a:ext cx="3412800" cy="1924200"/>
          </a:xfrm>
          <a:custGeom>
            <a:avLst/>
            <a:gdLst>
              <a:gd name="textAreaLeft" fmla="*/ 0 w 3412800"/>
              <a:gd name="textAreaRight" fmla="*/ 3413160 w 3412800"/>
              <a:gd name="textAreaTop" fmla="*/ 0 h 1924200"/>
              <a:gd name="textAreaBottom" fmla="*/ 1924560 h 192420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Freeform 9"/>
          <p:cNvSpPr/>
          <p:nvPr/>
        </p:nvSpPr>
        <p:spPr>
          <a:xfrm>
            <a:off x="2346480" y="132552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2730600" y="172872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4211640" y="172548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4570560" y="3095640"/>
            <a:ext cx="197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3325680" y="366084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2757600" y="4943520"/>
            <a:ext cx="23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WordArt 17"/>
          <p:cNvSpPr txBox="1"/>
          <p:nvPr/>
        </p:nvSpPr>
        <p:spPr>
          <a:xfrm>
            <a:off x="2843280" y="1200240"/>
            <a:ext cx="2943000" cy="165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067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 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5" name="WordArt 20"/>
          <p:cNvSpPr txBox="1"/>
          <p:nvPr/>
        </p:nvSpPr>
        <p:spPr>
          <a:xfrm rot="21448800">
            <a:off x="2854440" y="3660480"/>
            <a:ext cx="3020760" cy="170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381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493560" y="147600"/>
            <a:ext cx="7788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400" spc="-1" strike="noStrike">
                <a:solidFill>
                  <a:srgbClr val="f68b32"/>
                </a:solidFill>
                <a:latin typeface="Arial"/>
              </a:rPr>
              <a:t>Strategies to Achieve Equity and Improve Achievement for All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2666880" y="2417760"/>
            <a:ext cx="13687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ong students staff, teacher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s and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4479840" y="2363760"/>
            <a:ext cx="18082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skills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around equity, race, cross-cultural, gender, socio-economic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disability issu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3325680" y="4122720"/>
            <a:ext cx="2224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into account pedagogy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room strategies, content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, and asse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Freeform 9"/>
          <p:cNvSpPr/>
          <p:nvPr/>
        </p:nvSpPr>
        <p:spPr>
          <a:xfrm rot="20688600">
            <a:off x="263520" y="124416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6603840" y="1058760"/>
            <a:ext cx="1973520" cy="288936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8"/>
          <p:cNvSpPr/>
          <p:nvPr/>
        </p:nvSpPr>
        <p:spPr>
          <a:xfrm>
            <a:off x="5038560" y="4597560"/>
            <a:ext cx="3413160" cy="192384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2"/>
          <p:cNvSpPr/>
          <p:nvPr/>
        </p:nvSpPr>
        <p:spPr>
          <a:xfrm>
            <a:off x="493560" y="2320920"/>
            <a:ext cx="1681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Hara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torative Jus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6603840" y="1884240"/>
            <a:ext cx="1959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vention Strateg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/Equ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5940360" y="5275440"/>
            <a:ext cx="2156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ve &amp; Summ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5892840" y="486576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539640" y="171936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6230880" y="131904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4960" y="231480"/>
            <a:ext cx="862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9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1385640"/>
            <a:ext cx="8255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1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core learning targets (including content, process, and skills).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2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and implement common assessments to measure core learning targets.</a:t>
            </a:r>
            <a:br>
              <a:rPr sz="2000"/>
            </a:b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01600" y="136080"/>
            <a:ext cx="83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35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7800" y="1052640"/>
            <a:ext cx="8229600" cy="55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f68b32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3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provide relevant, timely, and meaningful feedback that increases motivation and achievement of all students regardless of race, gender, disability and socio-economic statu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4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liminate systemic barriers and provide the needed support to students to achieve their highest potential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8b32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5  Classroom practices will change as a result of implementing the Equity Action Pl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Collective Commitments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f our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ght and Loose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culture can be simultaneously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igh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oos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Tig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ddressing critical issues and certain task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 ensure consistency with principles and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Loo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ay-to-day implement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we all must act in order to achieve our Goal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urse Teams participa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and Viable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motes a higher level of Equity for All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work to answer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administer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mmon Formative Assessm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196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Course Teams as the Vehicle for our Work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king together to build shared knowledge on the best way to achieve goals and meet the needs of clients is exactly what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professionals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any field are expected to do… whether it be to cure a patient, win a lawsuit or help all students to lear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very essence of a learning community is a focus on and a commitment to the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learning of each stud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course team is a collaborative group of educators who work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interdependent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to achieve common goals linked to the purpose of learning for all studen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53:52Z</dcterms:created>
  <dc:creator>Roberto Trinidad</dc:creator>
  <dc:description/>
  <dc:language>en-US</dc:language>
  <cp:lastModifiedBy>Swanson, Brad</cp:lastModifiedBy>
  <cp:lastPrinted>2012-06-13T15:45:36Z</cp:lastPrinted>
  <dcterms:modified xsi:type="dcterms:W3CDTF">2012-06-13T17:15:07Z</dcterms:modified>
  <cp:revision>488</cp:revision>
  <dc:subject/>
  <dc:title>Slide 1</dc:title>
</cp:coreProperties>
</file>