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0B9B-612B-40AD-A7A7-4EFF94A3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1C38-C43B-47EE-9729-08B68DE5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94434-628B-421E-B800-7C2014B9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15E35-8468-4653-9B24-730BE000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E5C19-F4C3-4773-AE90-0845037E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48341-1D11-4C97-8804-B8036AD3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9C762-2FF4-4D0C-8F27-C49A8468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02895-12D1-4924-94B2-14DA4702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0F05B-09AA-430C-8F37-9CC34AB8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C75C6-5D53-4976-9BA8-E9434D67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D8018-B1D4-4F34-93E8-03D7012F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0840DC-6516-4F42-A442-545D8F27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5380-D455-45F4-8334-62727C40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26786D-0701-4AC4-80FB-5F985DBD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1D499A-3220-4A1F-B796-97CAB666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8AF4D0-A674-4153-9673-9D013805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832C4D-3D25-44D1-AAB6-3BEABD3F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ED6A56-67AD-49DA-9459-01BB641C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8B1E7C-FFC9-4E32-ACF8-BD07A229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E1F146-D7BF-493E-9F30-28579F34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59A21F-3412-41AA-A758-FA62642E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E77455-4DC6-4732-95B3-B0933E29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E815DF-EC40-4703-8C41-1EF27432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7C8A-66E4-4A90-8A7C-8D2559AD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E8FDC4-931C-4E4D-80BB-85637689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7486A-8209-4EBD-A090-851078A5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FDE1C-F1EA-4839-AD96-C2217613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14399-F81B-4BC6-B917-EBCA5226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FB760-342D-4800-8C00-5F976CAB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83274-BBF6-48A5-91F6-38FB4D48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8E7C6-CC36-4B26-8787-B97EE17B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C5774-FD7A-460E-A035-A3257CB4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374AA-2E94-4813-9019-7BB4B29B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A11A7-79D1-4EA0-BEB3-36ADC276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956D-DBD4-42CF-A541-6C37B578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67D84-7452-43A8-B8DE-1054FB19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49284-7364-4238-A5DA-AEE460D7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D9156-5D2F-4D3D-B53A-63572742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A39DE-7102-40A7-95CC-5C0C6D59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8080E-10BA-4121-AC73-1EC2332E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C553D-35D9-43CF-9BB4-7017A640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C362F-AF6C-4BBB-9101-21304580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53BFD-7C51-4B85-B46A-9FDC1B20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83B5B-5D7A-4DE9-BF03-A7AA855B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7C53E-3ACC-4741-A6E3-99530439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E69F-282E-4F46-8F65-0D9AB992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59DB6-4940-4559-A50F-4D630F05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70735-3B53-45A5-B2E7-446407FE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EE7C6-B70F-433E-B36D-A5FA6842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3852B-0770-4D13-ADEF-9C52FB79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E2DE2-950C-4216-B1AA-56616A4E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745D-A59D-4F2C-8DD6-B35E427B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4B5E-A652-49DB-9C47-D617BBCA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DD49-E4A9-47F6-B0E3-64A2C572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681E-2C7A-441D-ACA9-6DF53640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AB56-5816-49D1-979D-7B847F58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B7B0-7B6B-4462-9B66-A6BDC4A6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B5E2-6765-468D-A4CE-51E5865B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7B64-1A16-4336-9976-ACECAB40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1CB1-DE89-45F2-A6E9-C21EC604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BDBC-4965-4DE1-857E-71F7414D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2FAF-819F-4213-9976-E133C068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18967-B3C0-4D96-96A8-1E3CD84C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B2453-4D30-4DB4-B143-866036C0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8499F-BB7A-4AA1-A478-BC7528E0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DFD2C-299F-47F7-BEEB-CEA69DD4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C1689-F02D-48AD-848F-10E2C750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5663-98A3-436E-B03A-7E9F6C7F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4EDED-BDE9-47FA-A912-A4585E39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52476-5446-4C02-93DC-BCA97D69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EE995-0C1B-4457-BB3E-4E64BC8C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2375B-9C62-4710-9523-4B1A5B70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776B9-9AC5-44F0-A6BF-A4B417C5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0C0F2-003E-4B78-AB5B-F2E554AB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F8BA9-685C-405C-8EE6-D23CD9C4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46685-18DF-4CBA-8DBD-F4B88C95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F6B01-903C-4E85-A27D-1AA3AF2F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92C0B-E418-42CA-83FA-D4E580B7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3B42-BBD1-4AC7-A568-5C36F79D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199A1-F01A-4546-9766-9F5F3096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25EB8-D958-4787-8442-673BFC33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EE7F3-5D8D-4406-AFD8-67B44401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7BE0D-8362-4563-B9F0-73ECC1BD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C9D70-51B5-4FAE-9461-1CEF4101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C3D24-B1DD-4982-A799-88EA302C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51FE3-0955-4F47-B5B7-19637620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76D3F-9F30-4F3E-A794-D16B6C63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00D0D-FBB9-453A-9832-EF0276B5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1F644-D3F0-4ABE-A7F1-5DDA10FF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8EF0E-5CCF-4F9D-80EE-38118C23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60BE2-ACF2-4617-BA9D-D16BCCAD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008D3-C21D-4724-8984-93885D95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F1311-239E-4331-948A-587932E1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FCCD1-B82E-47C0-9CD5-37273DA0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46596-4F1B-4795-9295-69A61CC0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CB71C-42FC-482B-866B-F6ABDE59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CC058-6339-43E3-A814-19A20749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1A661-7E1A-455F-B84C-3D908554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A1DEB-2E27-43DF-9171-26E59AA5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3F8AB-4841-4E8D-BB0E-3A9D4A4B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7990-3B52-41F0-B497-6D632F81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9E5BA-8847-4B1B-8A72-3BB0456C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C992B-8852-442A-9307-E966BBE4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62985-25F7-4227-9A2F-6929B812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0E216-18C8-431C-8D5D-244FC522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46C28-0BE3-40E4-A93D-933C0AB5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72399-E111-489A-912B-7F6AECA2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259EC-88D7-4F8F-BCA8-174F0A0D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947E2-8E34-411C-9DCC-BDCF564F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76D06-A4F6-4BD1-9F32-E6F7F6D3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42EFD-EEDF-489D-ACA4-A1B84B4E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E071-415F-455B-860B-0BB1CB6C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7E489-A2FD-4A7B-B7F8-ECD7F297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5D6D7-802D-4365-A6F8-98F2C79A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0E763-D520-48EA-9723-38233D13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E79EC-75CF-48E9-93D2-0BA572CE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20CA0-21E7-4ED3-85C9-219C5C4F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76181-884A-41F3-9A0C-4F95034F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165CF-EF26-4ADD-B548-685282D9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44987-CFAC-4DBB-845F-79DD2068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80C3D-3D3D-42F2-A1D7-6E190DA7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FF555-9B57-47B1-AD10-015B70FA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E0FF-0F9C-4822-BAB8-B97FF74D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B5B86-F8A4-4147-81B4-A2D482D6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0CFDA-699A-4B57-8D7B-62496C21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0C097-DCC4-48D3-A70B-769B12C9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195C3-DD8E-4D2F-9584-0FFFE324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9584E-6AE5-49B3-BC17-D0BE18D7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2F208-8C29-4077-AF21-8CEC8A92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9EABE-4F45-4956-87C7-E816B65C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EC49F-D561-43E3-8B2D-E2A2451C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0C4AF-C89C-4B61-AA70-B13A4DCC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9434E-D919-4E7A-931B-F745D118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B3726-9F5C-42EC-BFD7-03192EAA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7CA40-3AA9-447E-B885-93094F83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7189A-554D-42D4-A5CC-FF738FD7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1A84B-6020-4531-8C05-E132C94C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9C02E-F873-4478-8E39-B49374F0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0EC40-8F19-4823-A47E-FE72B995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24273-5487-4150-AEB0-5E69BCD8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80537-7583-4CE6-9D68-CB1E2473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29BFD-3E21-496A-94D2-3F53D050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D80DC-9442-4527-BD3F-66C6C973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054FC-CAEF-4352-8F21-E991911D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F39F-79B0-426A-B3C1-91316C394C2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9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31A7-8A91-4064-8283-D3E73FB1B7F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3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2116-49A0-46B8-B085-28CC80417AC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EA02-EC90-4FFB-AE85-8DA934F2A5B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143F-6C62-4290-8026-A8F2B8814CE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E1DC-FA38-43C0-9FBC-70F9723FBC3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2FC6-F938-4597-B626-1FCC3541AF8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1648-5D72-45AC-9362-BC77BEE351F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D19E-CAAE-4E1E-A935-783A2319946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92E2-85CA-4D8E-BAAA-F094BC0AC8F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79E1-5880-4A6C-ACC6-A4416100EA5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281D-CA11-43BD-B005-B7796AAB243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5c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/News Rotator/CBO Students.jpg"/>
          <p:cNvPicPr/>
          <p:nvPr/>
        </p:nvPicPr>
        <p:blipFill>
          <a:blip r:embed="rId1"/>
          <a:stretch/>
        </p:blipFill>
        <p:spPr>
          <a:xfrm>
            <a:off x="0" y="285840"/>
            <a:ext cx="8485200" cy="6364080"/>
          </a:xfrm>
          <a:prstGeom prst="rect">
            <a:avLst/>
          </a:prstGeom>
          <a:ln w="0">
            <a:noFill/>
          </a:ln>
        </p:spPr>
      </p:pic>
      <p:pic>
        <p:nvPicPr>
          <p:cNvPr id="517" name="TextBox 2" descr=""/>
          <p:cNvPicPr/>
          <p:nvPr/>
        </p:nvPicPr>
        <p:blipFill>
          <a:blip r:embed="rId2"/>
          <a:stretch/>
        </p:blipFill>
        <p:spPr>
          <a:xfrm>
            <a:off x="0" y="176040"/>
            <a:ext cx="9144000" cy="2322720"/>
          </a:xfrm>
          <a:prstGeom prst="rect">
            <a:avLst/>
          </a:prstGeom>
          <a:ln w="0">
            <a:noFill/>
          </a:ln>
        </p:spPr>
      </p:pic>
      <p:pic>
        <p:nvPicPr>
          <p:cNvPr id="518" name="TextBox 3" descr=""/>
          <p:cNvPicPr/>
          <p:nvPr/>
        </p:nvPicPr>
        <p:blipFill>
          <a:blip r:embed="rId3"/>
          <a:stretch/>
        </p:blipFill>
        <p:spPr>
          <a:xfrm>
            <a:off x="0" y="1755720"/>
            <a:ext cx="90583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5e47"/>
                </a:solidFill>
                <a:latin typeface="Cambria"/>
              </a:rPr>
              <a:t>Guaranteed and Viable Curriculum and Assessments: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Guaranteed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udents have access to th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same essential learning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gardless of who is teaching the cour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iabl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rning Targets can b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effectively taught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n the time allott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is practice promotes 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higher level of Equity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all students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an we create a “Stop Doing List”?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at current content can be eliminated because it is not essential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n and where can this be implemented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Five Guiding Questions for our Course Team Work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constant collective inquiry into the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Five Guiding Questions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s a professional responsibility for every educato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What do we want our students to know and be able to do? (GQ1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know if our students are successful? (GQ2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respond when students are not successful? (GQ3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help students grow in their own learning? (GQ4)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create effective learning environments for all our students? (GQ5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Focus of our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What do we want our students to know and be able to do?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GQ1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Teacher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Each Course Team will establish 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Core Student Learning Targets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which provide the foundation for content, skills and process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Student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We will work to ensure that our students fully understand and monitor their own learning target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Focus of our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know if our students are successful?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GQ2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Teacher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Each Course Team will establish common indicators for success and 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Common Formative Assessment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o authentically determine student achievemen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Student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We will work to ensure that our students engage in assessments that clearly inform their level of performanc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Focus of our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respond when students are not successful? (GQ3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2f2b20"/>
                </a:solidFill>
                <a:uFillTx/>
                <a:latin typeface="Calibri"/>
              </a:rPr>
              <a:t>Teacher Focus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Each Course Team will 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Analyze Student Work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n order to make adjustments to daily instruction (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Classroom Interventions)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ing to improved student achievement. (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Responsive Teachin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2f2b20"/>
                </a:solidFill>
                <a:uFillTx/>
                <a:latin typeface="Calibri"/>
              </a:rPr>
              <a:t>Student Focus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We will work to ensure that our students fully understand how to re-learn, re-study or re-work to improve their level of achievement. 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(Learning Adjustment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mmon Formative Assessments (CFA)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e of the most powerful, high-leverage strategies for improving student learning available to schools is the creation of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frequent, common, high-quality formative assessment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teachers who are working collaboratively to help a group of students develop agreed-upon knowledge and skills.”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(Fullan, Reeves, Schmoker, Stiggin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wo Types of Assessments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umma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Like an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Autopsy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;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lains why the student failed but the information comes too lat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sessment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of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Lear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easures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many things infrequentl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Forma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Like a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Physical Exam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;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vides timely information to help a struggling learner or enrich a successful learn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sessment</a:t>
            </a:r>
            <a:r>
              <a:rPr b="0" i="1" lang="en-US" sz="20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for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Lear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easures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few things frequentl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FAs and Course Team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mmon Formative Assessments… Benefits…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r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more efficient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an those created by individual teacher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r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more equitable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stude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ccess to the same curriculum and targe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mmon pac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 determine if 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guaranteed curriculum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s being learn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Informs the practice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of individual teacher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 seek assistance from teammat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uilds a team’s ability to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improve overall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acilitates 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ollective timely response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struggling learners (interventions)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Protocol for Common Formative Assessment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reate Common Formative Assessmen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ycl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(One per quarter… Simple CF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ign each CFA to a Learning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arget(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termine the appropriat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Method of Assessmen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y th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roficiency Standard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r each CF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dminister the assessmen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sistentl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view th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tudent Performance Dat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termine how to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Respond to the Dat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Re-Teach and Re-Asses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s necessar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“4</a:t>
            </a:r>
            <a:r>
              <a:rPr b="0" lang="en-US" sz="4600" spc="-1" strike="noStrike" baseline="30000">
                <a:solidFill>
                  <a:srgbClr val="675e47"/>
                </a:solidFill>
                <a:latin typeface="Cambria"/>
              </a:rPr>
              <a:t>th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R”… is Responsiv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ading, ‘Riting, and ‘Rithmatic… the 3 R’s of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Yesterd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igor, Relevance, and Relationships… the 3 R’s of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d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re is a 4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R fo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morrow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… it i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esponsiv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f2b20"/>
                </a:solidFill>
                <a:latin typeface="Calibri"/>
              </a:rPr>
              <a:t>Responsive Teaching is Equitable Teaching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reate a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System of Responsive Teaching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y using CFA Cycle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view Student Performance Dat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djust our Teach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djust our Students’ Learning Practic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e are better at CFA Cycles when they are Common…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rn from each oth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upport each oth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Title 1" descr=""/>
          <p:cNvPicPr/>
          <p:nvPr/>
        </p:nvPicPr>
        <p:blipFill>
          <a:blip r:embed="rId1"/>
          <a:stretch/>
        </p:blipFill>
        <p:spPr>
          <a:xfrm>
            <a:off x="457200" y="-55440"/>
            <a:ext cx="7656480" cy="2017440"/>
          </a:xfrm>
          <a:prstGeom prst="rect">
            <a:avLst/>
          </a:prstGeom>
          <a:ln w="0">
            <a:noFill/>
          </a:ln>
        </p:spPr>
      </p:pic>
      <p:pic>
        <p:nvPicPr>
          <p:cNvPr id="520" name="Content Placeholder 2" descr=""/>
          <p:cNvPicPr/>
          <p:nvPr/>
        </p:nvPicPr>
        <p:blipFill>
          <a:blip r:embed="rId2"/>
          <a:stretch/>
        </p:blipFill>
        <p:spPr>
          <a:xfrm>
            <a:off x="433440" y="1603440"/>
            <a:ext cx="76438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s Taking Place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very person associated with student learning may need to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re-define his or her role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… those comfortable working i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isolation will need to work collaboratively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… those accustom to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rding authority will need to share i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… and people who have operated under certai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ssumption may be asked to change them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” </a:t>
            </a:r>
            <a:r>
              <a:rPr b="0" i="1" lang="en-US" sz="16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urse Teams, Learning Targets and Common Formative Assessments are not just programs to implement, but instead, are a part of an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ongoing proces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o bring about significan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inuous improvement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o our teaching and learning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Fundamental Purpose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a focus on Teaching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a focus on Learn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an emphasis on what is taught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a fixation on what students have learn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the coverage of content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a demonstration of proficienc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individual teacher establishing curriculum documents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engaging with collaborative teams to build essential learning targe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the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ork of Teacher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isolation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only co-planning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lso co-assess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“collaboration lite” on matters unrelated to student achievement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on explicitly focused on issues that directly impact student achieve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each teacher assigning priority to curriculum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ve teams establishing priority of learning targe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each teacher determining their own pacing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ve teams agreeing on common pac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privatization of practice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open sharing of practic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n assumption that these are “my kids, and those are your kids”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n assumption that these are “our kids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se of Assessment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infrequent summative assessment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frequent common formative assessm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ssessments to determine which students failed to learn by the deadline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ments to identify students in need of additional time and suppo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ssessments used to reward and punish student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ments use to inform and motivate stud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ssessing many things infrequently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ing a few things frequentl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se of Assessment: (con’t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individual teacher assessment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ments developed jointly by tea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each teacher determining the criteria used in assessing student work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teams clarifying the criteria and ensuring consistency when assessing student wor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n over-reliance on one kind of assessment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 balanced use of assessm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focusing on average score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monitoring each student’s proficiency in every essential learning targ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5e47"/>
                </a:solidFill>
                <a:latin typeface="Cambria"/>
              </a:rPr>
              <a:t>So, the Organization of our Work is a follows…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issio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to Create an Equitable School that Improves Achievement for All Stud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Strategy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to Strengthen and Enrich our Curriculu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Goal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to establish a  Guaranteed and Viable Learning Experience for All Stud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ongoing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Work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answering the Five Guiding Question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Professional Development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s offered through meeting the ongoing needs of our Course Tea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current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Focu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on Common Learning Targets and Common Formative Assessment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Vehicle for Action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s the Course Team…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It Just Makes Sense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It just makes sense that a school committed to helping All Students Learn…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focus on learning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ther than teach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ensure students hav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access to the same curricul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assess each student on a timely basis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reate systematic response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vide additional time and suppor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accomplish more working collaboratively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ther than in isol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assess our effectiveness on the basis of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student resul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s as the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Vehicles for Actio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The question before us is not…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What do we need to know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in order to improve?”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but rather it is…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Will we turn what we already know into </a:t>
            </a:r>
            <a:r>
              <a:rPr b="1" i="1" lang="en-US" sz="3600" spc="-1" strike="noStrike">
                <a:solidFill>
                  <a:srgbClr val="2f2b20"/>
                </a:solidFill>
                <a:latin typeface="Calibri"/>
              </a:rPr>
              <a:t>ACTION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?”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42800" y="731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75e47"/>
                </a:solidFill>
                <a:latin typeface="Cambria"/>
              </a:rPr>
              <a:t>Objectives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711000" y="1160640"/>
            <a:ext cx="755316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Improve performance and raise achievement for ALL student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2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Eliminate the predictability and disproportionality 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of students who are in the highest and lowest achieving groups (racial, socio-economic, gender and disability).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2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Provide opportunity/access for ALL students 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by examining and eliminating barriers that impact participation. 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Cambria"/>
              </a:rPr>
              <a:t>District 113 Equity Belief Statements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n terms of equity, we believe tha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All students must have access to resources, opportunities and  rigorous curriculum that ensure their succes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lationships form the foundation of an equitable school district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chool does not have to look the same for each and every student and employee and,  outcomes can still be high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We must work together to eliminate racial, socio-economic and gender predictability within our system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 world class education requires racial consciousness , cross-cultural &amp; disability  awareness and gender equity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We must measure our progress toward making these beliefs a reality to ensure that “all means all”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Oval 3"/>
          <p:cNvSpPr/>
          <p:nvPr/>
        </p:nvSpPr>
        <p:spPr>
          <a:xfrm>
            <a:off x="2109960" y="992160"/>
            <a:ext cx="4555800" cy="45561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Freeform 7"/>
          <p:cNvSpPr/>
          <p:nvPr/>
        </p:nvSpPr>
        <p:spPr>
          <a:xfrm>
            <a:off x="4314960" y="1325520"/>
            <a:ext cx="1973160" cy="2889360"/>
          </a:xfrm>
          <a:custGeom>
            <a:avLst/>
            <a:gdLst>
              <a:gd name="textAreaLeft" fmla="*/ 0 w 1973160"/>
              <a:gd name="textAreaRight" fmla="*/ 1973520 w 197316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4" h="260">
                <a:moveTo>
                  <a:pt x="150" y="260"/>
                </a:moveTo>
                <a:cubicBezTo>
                  <a:pt x="165" y="234"/>
                  <a:pt x="174" y="204"/>
                  <a:pt x="174" y="174"/>
                </a:cubicBez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150" y="260"/>
                </a:lnTo>
                <a:close/>
              </a:path>
            </a:pathLst>
          </a:custGeom>
          <a:solidFill>
            <a:srgbClr val="d56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Freeform 8"/>
          <p:cNvSpPr/>
          <p:nvPr/>
        </p:nvSpPr>
        <p:spPr>
          <a:xfrm>
            <a:off x="2602080" y="3259080"/>
            <a:ext cx="3412800" cy="1924200"/>
          </a:xfrm>
          <a:custGeom>
            <a:avLst/>
            <a:gdLst>
              <a:gd name="textAreaLeft" fmla="*/ 0 w 3412800"/>
              <a:gd name="textAreaRight" fmla="*/ 3413160 w 3412800"/>
              <a:gd name="textAreaTop" fmla="*/ 0 h 1924200"/>
              <a:gd name="textAreaBottom" fmla="*/ 1924560 h 1924200"/>
            </a:gdLst>
            <a:ahLst/>
            <a:rect l="textAreaLeft" t="textAreaTop" r="textAreaRight" b="textAreaBottom"/>
            <a:pathLst>
              <a:path w="30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cubicBezTo>
                  <a:pt x="213" y="173"/>
                  <a:pt x="270" y="140"/>
                  <a:pt x="301" y="86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Freeform 9"/>
          <p:cNvSpPr/>
          <p:nvPr/>
        </p:nvSpPr>
        <p:spPr>
          <a:xfrm>
            <a:off x="2346480" y="1325520"/>
            <a:ext cx="1984320" cy="2889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5" h="260">
                <a:moveTo>
                  <a:pt x="174" y="0"/>
                </a:moveTo>
                <a:cubicBezTo>
                  <a:pt x="78" y="0"/>
                  <a:pt x="1" y="77"/>
                  <a:pt x="1" y="173"/>
                </a:cubicBezTo>
                <a:cubicBezTo>
                  <a:pt x="0" y="204"/>
                  <a:pt x="9" y="234"/>
                  <a:pt x="24" y="260"/>
                </a:cubicBezTo>
                <a:lnTo>
                  <a:pt x="175" y="174"/>
                </a:lnTo>
                <a:lnTo>
                  <a:pt x="174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11"/>
          <p:cNvSpPr/>
          <p:nvPr/>
        </p:nvSpPr>
        <p:spPr>
          <a:xfrm>
            <a:off x="2730600" y="172872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engthen Relationshi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4211640" y="172548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crease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4570560" y="3095640"/>
            <a:ext cx="197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3325680" y="3660840"/>
            <a:ext cx="17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engthen and Enrich Curricul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2757600" y="4943520"/>
            <a:ext cx="23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WordArt 17"/>
          <p:cNvSpPr txBox="1"/>
          <p:nvPr/>
        </p:nvSpPr>
        <p:spPr>
          <a:xfrm>
            <a:off x="2843280" y="1200240"/>
            <a:ext cx="2943000" cy="165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067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675e47"/>
                  </a:solidFill>
                  <a:miter/>
                </a:ln>
                <a:solidFill>
                  <a:srgbClr val="675e47"/>
                </a:solidFill>
                <a:latin typeface="Arial"/>
              </a:rPr>
              <a:t>Culture—The Day-to-Day Experience </a:t>
            </a:r>
            <a:endParaRPr b="0" lang="en-US" sz="2800" spc="1" strike="noStrike">
              <a:ln w="9360">
                <a:solidFill>
                  <a:srgbClr val="675e47"/>
                </a:solidFill>
                <a:miter/>
              </a:ln>
              <a:solidFill>
                <a:srgbClr val="675e47"/>
              </a:solidFill>
              <a:latin typeface="Arial"/>
              <a:ea typeface="Arial"/>
            </a:endParaRPr>
          </a:p>
        </p:txBody>
      </p:sp>
      <p:sp>
        <p:nvSpPr>
          <p:cNvPr id="535" name="WordArt 20"/>
          <p:cNvSpPr txBox="1"/>
          <p:nvPr/>
        </p:nvSpPr>
        <p:spPr>
          <a:xfrm rot="21448800">
            <a:off x="2854440" y="3660480"/>
            <a:ext cx="3020760" cy="170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381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675e47"/>
                  </a:solidFill>
                  <a:miter/>
                </a:ln>
                <a:solidFill>
                  <a:srgbClr val="675e47"/>
                </a:solidFill>
                <a:latin typeface="Arial"/>
              </a:rPr>
              <a:t>Culture—The Day-to-Day Experience</a:t>
            </a:r>
            <a:endParaRPr b="0" lang="en-US" sz="2800" spc="1" strike="noStrike">
              <a:ln w="9360">
                <a:solidFill>
                  <a:srgbClr val="675e47"/>
                </a:solidFill>
                <a:miter/>
              </a:ln>
              <a:solidFill>
                <a:srgbClr val="675e47"/>
              </a:solidFill>
              <a:latin typeface="Arial"/>
              <a:ea typeface="Arial"/>
            </a:endParaRPr>
          </a:p>
        </p:txBody>
      </p:sp>
      <p:sp>
        <p:nvSpPr>
          <p:cNvPr id="536" name="Text Box 21"/>
          <p:cNvSpPr/>
          <p:nvPr/>
        </p:nvSpPr>
        <p:spPr>
          <a:xfrm>
            <a:off x="493560" y="147600"/>
            <a:ext cx="7788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400" spc="-1" strike="noStrike">
                <a:solidFill>
                  <a:srgbClr val="f68b32"/>
                </a:solidFill>
                <a:latin typeface="Arial"/>
              </a:rPr>
              <a:t>Strategies to Achieve Equity and Improve Achievement for All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22"/>
          <p:cNvSpPr/>
          <p:nvPr/>
        </p:nvSpPr>
        <p:spPr>
          <a:xfrm>
            <a:off x="2666880" y="2417760"/>
            <a:ext cx="13687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ong students staff, teacher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ents and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4479840" y="2363760"/>
            <a:ext cx="18082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ledge, skills a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around equity, race, cross-cultural, gender, socio-economic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disability issu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4"/>
          <p:cNvSpPr/>
          <p:nvPr/>
        </p:nvSpPr>
        <p:spPr>
          <a:xfrm>
            <a:off x="3325680" y="4122720"/>
            <a:ext cx="22240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ing into account pedagogy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room strategies, content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dback, and assess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Freeform 9"/>
          <p:cNvSpPr/>
          <p:nvPr/>
        </p:nvSpPr>
        <p:spPr>
          <a:xfrm rot="20688600">
            <a:off x="263520" y="1244160"/>
            <a:ext cx="1984320" cy="2889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5" h="260">
                <a:moveTo>
                  <a:pt x="174" y="0"/>
                </a:moveTo>
                <a:cubicBezTo>
                  <a:pt x="78" y="0"/>
                  <a:pt x="1" y="77"/>
                  <a:pt x="1" y="173"/>
                </a:cubicBezTo>
                <a:cubicBezTo>
                  <a:pt x="0" y="204"/>
                  <a:pt x="9" y="234"/>
                  <a:pt x="24" y="260"/>
                </a:cubicBezTo>
                <a:lnTo>
                  <a:pt x="175" y="174"/>
                </a:lnTo>
                <a:lnTo>
                  <a:pt x="174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6603840" y="1058760"/>
            <a:ext cx="1973520" cy="2889360"/>
          </a:xfrm>
          <a:custGeom>
            <a:avLst/>
            <a:gdLst>
              <a:gd name="textAreaLeft" fmla="*/ 0 w 1973520"/>
              <a:gd name="textAreaRight" fmla="*/ 1973880 w 197352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4" h="260">
                <a:moveTo>
                  <a:pt x="150" y="260"/>
                </a:moveTo>
                <a:cubicBezTo>
                  <a:pt x="165" y="234"/>
                  <a:pt x="174" y="204"/>
                  <a:pt x="174" y="174"/>
                </a:cubicBez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150" y="260"/>
                </a:lnTo>
                <a:close/>
              </a:path>
            </a:pathLst>
          </a:custGeom>
          <a:solidFill>
            <a:srgbClr val="d56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Freeform 8"/>
          <p:cNvSpPr/>
          <p:nvPr/>
        </p:nvSpPr>
        <p:spPr>
          <a:xfrm>
            <a:off x="5038560" y="4597560"/>
            <a:ext cx="3413160" cy="1923840"/>
          </a:xfrm>
          <a:custGeom>
            <a:avLst/>
            <a:gdLst>
              <a:gd name="textAreaLeft" fmla="*/ 0 w 3413160"/>
              <a:gd name="textAreaRight" fmla="*/ 3413520 w 3413160"/>
              <a:gd name="textAreaTop" fmla="*/ 0 h 1923840"/>
              <a:gd name="textAreaBottom" fmla="*/ 1924200 h 1923840"/>
            </a:gdLst>
            <a:ahLst/>
            <a:rect l="textAreaLeft" t="textAreaTop" r="textAreaRight" b="textAreaBottom"/>
            <a:pathLst>
              <a:path w="30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cubicBezTo>
                  <a:pt x="213" y="173"/>
                  <a:pt x="270" y="140"/>
                  <a:pt x="301" y="86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22"/>
          <p:cNvSpPr/>
          <p:nvPr/>
        </p:nvSpPr>
        <p:spPr>
          <a:xfrm>
            <a:off x="493560" y="2320920"/>
            <a:ext cx="16812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Harass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y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torative Just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end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2"/>
          <p:cNvSpPr/>
          <p:nvPr/>
        </p:nvSpPr>
        <p:spPr>
          <a:xfrm>
            <a:off x="6603840" y="1884240"/>
            <a:ext cx="1959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vention Strateg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/Equ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al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22"/>
          <p:cNvSpPr/>
          <p:nvPr/>
        </p:nvSpPr>
        <p:spPr>
          <a:xfrm>
            <a:off x="5940360" y="5275440"/>
            <a:ext cx="2156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ve &amp; Summ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5892840" y="4865760"/>
            <a:ext cx="17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engthen and Enrich Curricul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539640" y="171936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engthen Relationshi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6230880" y="131904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crease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64960" y="231480"/>
            <a:ext cx="862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75e47"/>
                </a:solidFill>
                <a:latin typeface="Cambria"/>
              </a:rPr>
              <a:t>Strategy 3: Strengthen and Enrich Curriculum </a:t>
            </a:r>
            <a:br>
              <a:rPr sz="900"/>
            </a:br>
            <a:r>
              <a:rPr b="0" lang="en-US" sz="1400" spc="-1" strike="noStrike">
                <a:solidFill>
                  <a:srgbClr val="675e47"/>
                </a:solidFill>
                <a:latin typeface="Cambria"/>
              </a:rPr>
              <a:t>Characteristics of Effective District 113 Educators</a:t>
            </a:r>
            <a:endParaRPr b="0" lang="en-US" sz="1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6840" y="1385640"/>
            <a:ext cx="8255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8b32"/>
                </a:solidFill>
                <a:latin typeface="Calibri"/>
              </a:rPr>
              <a:t>Goal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1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eachers will develop core learning targets (including content, process, and skills).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b08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2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eachers will develop and implement common assessments to measure core learning targets.</a:t>
            </a:r>
            <a:br>
              <a:rPr sz="2000"/>
            </a:b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01600" y="136080"/>
            <a:ext cx="83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75e47"/>
                </a:solidFill>
                <a:latin typeface="Cambria"/>
              </a:rPr>
              <a:t>Strategy 3: Strengthen and Enrich Curriculum </a:t>
            </a:r>
            <a:br>
              <a:rPr sz="3500"/>
            </a:br>
            <a:r>
              <a:rPr b="0" lang="en-US" sz="1400" spc="-1" strike="noStrike">
                <a:solidFill>
                  <a:srgbClr val="675e47"/>
                </a:solidFill>
                <a:latin typeface="Cambria"/>
              </a:rPr>
              <a:t>Characteristics of Effective District 113 Educators</a:t>
            </a:r>
            <a:endParaRPr b="0" lang="en-US" sz="1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07800" y="1052640"/>
            <a:ext cx="8229600" cy="55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8b32"/>
                </a:solidFill>
                <a:latin typeface="Calibri"/>
              </a:rPr>
              <a:t>Goals</a:t>
            </a:r>
            <a:r>
              <a:rPr b="0" lang="en-US" sz="2200" spc="-1" strike="noStrike">
                <a:solidFill>
                  <a:srgbClr val="f68b32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3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eachers will provide relevant, timely, and meaningful feedback that increases motivation and achievement of all students regardless of race, gender, disability and socio-economic statu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b08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4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Eliminate systemic barriers and provide the needed support to students to achieve their highest potential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8b32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5  Classroom practices will change as a result of implementing the Equity Action Pla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Collective Commitments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of our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ght and Loose”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chool culture can be simultaneously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ight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loose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Tigh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n addressing critical issues and certain task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 ensure consistency with principles and practic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Loo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ay-to-day implement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we all must act in order to achieve our Goals…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l teachers will b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ourse Teams participa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Guaranteed and Viable Curriculum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motes a higher level of Equity for All Stude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l teachers will work to answer th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Five Guiding Questions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l Teachers will administer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ommon Formative Assessme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196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5e47"/>
                </a:solidFill>
                <a:latin typeface="Cambria"/>
              </a:rPr>
              <a:t>Course Teams as the Vehicle for our Work: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orking together to build shared knowledge on the best way to achieve goals and meet the needs of clients is exactly what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professionals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any field are expected to do… whether it be to cure a patient, win a lawsuit or help all students to lear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 very essence of a learning community is a focus on and a commitment to the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learning of each studen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 course team is a collaborative group of educators who work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interdependently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to achieve common goals linked to the purpose of learning for all student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53:52Z</dcterms:created>
  <dc:creator>Roberto Trinidad</dc:creator>
  <dc:description/>
  <dc:language>en-US</dc:language>
  <cp:lastModifiedBy>Swanson, Brad</cp:lastModifiedBy>
  <cp:lastPrinted>2012-06-13T15:45:36Z</cp:lastPrinted>
  <dcterms:modified xsi:type="dcterms:W3CDTF">2012-06-13T17:15:07Z</dcterms:modified>
  <cp:revision>488</cp:revision>
  <dc:subject/>
  <dc:title>Slide 1</dc:title>
</cp:coreProperties>
</file>