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69F3-04A3-49DA-AABC-12EC4A28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D007-3603-40CF-A63E-A4CB27BE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8452F-032A-4D66-B22A-C15A6EF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A04A6-A650-4AE6-A038-96A3706E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8AE16-AC73-4D39-892C-839E248A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1B42-63D5-42F9-93AC-11D381CB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1D921-1989-4363-AB5C-9A81873B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1CB4B-FD97-4467-AD6A-5C5AA13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8E4F4-F131-4D4C-B2BC-63FD1C69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02D7B-90A1-4511-BDDD-E8359878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7FA9D-8573-4D78-AC69-901AD7B6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46F5E8-C888-4809-BF95-BD685B98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479A-78FB-4A87-9396-B25B7BAE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0ACAD6-17C6-4892-A9A5-15B047CB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7EBE10-4168-45B2-8895-D53EC72F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0DB72A-4726-4978-B96A-3A1E6E4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C3E764-F970-47EE-A550-A4B61373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6EAB26-D10E-4CF3-9A7B-38165143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AE0FA6-ADBE-478C-9A9E-499A70B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3BE893-BEFD-4B66-8957-8081DFA0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0F9BA6-52DE-4A11-91D4-05ED6283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BAB5AD-C1F7-40D2-8DBB-52E20352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A1C15F-DF56-4D7A-B08F-D99CFAA0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275A-AC4C-4196-AA0C-D63A1017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37F24-A823-48CF-944D-D64A2557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5121E-DE60-4784-86C4-CCA9D2BC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F6372-EA5F-4F98-9566-EA609CA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1B20D-1FB7-4EA9-883F-3B0BB480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59992-8927-4D06-8E68-5AC344FD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84449-35B9-45F9-A415-E22F94DE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3933F-46D0-4290-AAF5-43BC7B9D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EB4B4-3774-45F5-A165-9868AE35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CBFEC-2474-43E1-911E-B7EBD468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B93A2-2126-4C2C-A3B7-FB01099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FA24-D51F-47BF-A032-B989C696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643C0-7170-4CF5-9463-ECDCBDDE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F57F0-BC72-44E6-8DC8-B327E78F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9B6C0-4E0D-4CB8-8D98-CE6F989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41989-A99F-4CAE-ABFA-5FF523C1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89085-CBC0-48C9-A235-72884CAB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8FC82-E7A0-4608-BF58-D01483D2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0AA44-FCBE-41A0-B79C-0226C70C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CECD1-38AA-4EA2-9628-65BAE2C7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050EF-84EB-4B36-AE74-77A39965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B2FFD-CDD2-4F8D-870A-D5E66C6B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366B-CC8B-49A8-A9A9-C0E1B856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55B05-C993-42C8-B360-2F8F6BF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CF085-291A-4D25-8E7E-5E02558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FC84F-DFF2-4C7A-86B8-157D1A46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32A99-6685-4FCF-BD18-658D1FE9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42809-7166-4E6F-BD12-9E4E1882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4B37-D74B-4588-BF57-3D5DDFC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25D8-2B4C-430D-885B-3C1F7C84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E178-416B-468D-A052-1E21F141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F545-AF1C-4EEF-AD5B-B2568EED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EFEA-78C5-4DF0-8844-C640382A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5960-39E9-4AE2-BC67-C4CBA328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4A1-9DF1-4F72-91E8-82E0AEE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2449-6A45-4972-86DB-4CB68664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97C9-4B55-4638-B44A-BD4FE474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5327-017F-47AF-A7B2-860D2D06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0592-E9E5-4D8C-A8D1-C1C65675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BE6C-9A93-4ED2-AA48-A4C05413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ECC0-A976-488A-8FC9-871C23FD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B6A0-EB6F-4F71-99EF-10DC820B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21D0-204B-4132-97E2-9925B510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EFAF-25D4-4E3D-A7D8-65F67ECB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CE4D-9B77-4F23-875D-2E33ADE3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E29C-6C5A-45E6-802D-A14AE259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E6AD-8C3D-4E26-AC84-8204DFB3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57FF-0BF4-492F-A6A3-C44EDE0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C41DB-2496-4981-84A9-ABE2141A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328E0-8EB1-4182-B7C2-5644351A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3331-5C14-4726-9F5E-0D2142FD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9578-2C6F-49E3-BE21-7C2238F8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47BF-6E65-4491-B736-0FEB1622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1305-EC27-49A6-BF72-6B39047E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52155-0227-42A5-9A36-BFF0E490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E176-AAEA-463E-B44A-003D6646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0DCC-8C76-4FE6-A665-C21F4AC5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09F0-1DCF-40E2-BB41-B9FCE150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A458-8711-439D-B20F-03E5F795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3672-A372-46FE-B581-01A5CF3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AD2E-FD93-4D3D-ABB4-5CDC0F5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BBB5-2E3E-40AC-AF66-1702809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FB7D-749A-4E83-B75D-1F605359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484B-AAAA-4F0F-8E10-263B5B0B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60DC-1F5B-4197-8EF3-C9E017AA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12492-BEA0-4587-B0C1-88376217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6843-E2FA-4A38-892B-3A4AA4D2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114CB-4DFE-42A8-B075-710EC3FB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65455-C0EC-4CB9-AF22-8F0BEE41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DB5A-FEF3-4A14-8837-985E78D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B07A-71EB-4D83-B4CE-0ACCC05C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121BA-1DA3-4C6E-AEE0-A93761D1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8281F-9C3C-4B5E-9687-70A3FE5C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FC59C-9EDD-40A0-8CA7-4054A9AC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E85E9-D35E-49F2-9086-049D2E30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4A686-0D6C-463A-A8FC-E146746E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01128-F650-428F-86C4-637999D5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9AB3-66B7-4846-ABC7-1594986E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2C603-D9C5-4FA0-AE75-AD303445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D3685-60C4-4BB2-8567-EDD35BAA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CCC4-A87E-4B1A-B2DB-E0114034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E2833-321A-41C6-9693-E7FA3E9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32A8C-F244-4999-942D-2A29A6F5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2002D-B0CF-488A-9D5D-D2B5E501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42CBB-B041-4FD1-A728-CFDE6750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7BFDA-6AA7-44F2-B9C2-312D1B7B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0449C-5724-4442-8183-27430C4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8BFB6-AFD7-4622-BE4E-CA01835D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E6B5-6FB5-481B-A07C-9231114C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E2F79-CA78-4D6A-A10D-3628CCE0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26731-08F6-4E23-8344-90B23B02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62CA7-9D88-4B54-A053-7FDBF14E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2198B-4139-499E-8A7F-7C9FD9BB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91EF-EE18-43F6-AD6D-48C19671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48A95-0672-4645-9A63-AF85648D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5FBC8-FD96-4061-A6A6-447C03C3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DE1EC-DF66-44B8-AE70-A7B347D5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A8525-3217-4846-A2A6-601DD7CE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85E6A-2900-4B14-8FF6-BD75A54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0EC2-A03F-45C8-9C31-C993CBD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7DC3-295B-4D7A-9EFA-9A3E56C9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1BD5F-D533-4728-9026-74AD9AA9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60758-D935-4BF2-B354-900F561F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B902A-C689-4D5C-82B1-40E2DE87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5AA3D-5077-4D31-AF1D-65775033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61973-4CD4-4522-9EC9-E0EAE4F1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60A43-BEA4-44D0-8CA8-6BFB5461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78D1F-ED5A-47CD-B633-BA7D43ED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06798-AEF2-472E-90A0-39890277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67169-A864-43A1-940A-70E438FE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7F2C-056E-435F-88AA-40B9D793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CAEA6-0287-410C-849C-9A83C7C9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6BECA-137D-4C1C-82D4-21EF128B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B71C-D432-45CF-8760-D913DBEB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1C7F9-6D70-4948-97EF-175F87B8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96FDE-33B5-4007-87A6-C05CA779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0697-CEC0-4455-96C8-0579FB69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286C5-A039-4789-93C8-8247E62B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F6DB2-B20B-4360-AC08-0DBD8E32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34975-4B4A-4BB5-98DB-4F752E07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C73B2-BED6-4ADC-992A-218E7DE7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1DEB-9284-4AE8-8366-DB46DFCC92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AC7D-53F9-4E72-A340-BB193A0335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3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3FBD-D7BC-401A-82D1-E246248D03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DCDB-24D5-4CF3-B42F-7909A75468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AB5E-F5D7-48FB-AF46-2CC576AD4C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2551-EE5B-4B59-A9EF-C44C6E2B5D7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29F0-34E5-401C-A501-6368991B28C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FFA6-6344-4041-95B4-2C59ADEA27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2B96-A426-4814-8CA7-DCF9027344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2DEB-9FAE-4089-BC09-3A93EDBA86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6178-C9A0-4B3F-93CE-BB21CC38C6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274E-3FEB-473E-9217-DF0239A3AD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c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/News Rotator/CBO Students.jpg"/>
          <p:cNvPicPr/>
          <p:nvPr/>
        </p:nvPicPr>
        <p:blipFill>
          <a:blip r:embed="rId1"/>
          <a:stretch/>
        </p:blipFill>
        <p:spPr>
          <a:xfrm>
            <a:off x="0" y="285840"/>
            <a:ext cx="8485200" cy="6364080"/>
          </a:xfrm>
          <a:prstGeom prst="rect">
            <a:avLst/>
          </a:prstGeom>
          <a:ln w="0">
            <a:noFill/>
          </a:ln>
        </p:spPr>
      </p:pic>
      <p:pic>
        <p:nvPicPr>
          <p:cNvPr id="517" name="TextBox 2" descr=""/>
          <p:cNvPicPr/>
          <p:nvPr/>
        </p:nvPicPr>
        <p:blipFill>
          <a:blip r:embed="rId2"/>
          <a:stretch/>
        </p:blipFill>
        <p:spPr>
          <a:xfrm>
            <a:off x="0" y="176040"/>
            <a:ext cx="9144000" cy="2322720"/>
          </a:xfrm>
          <a:prstGeom prst="rect">
            <a:avLst/>
          </a:prstGeom>
          <a:ln w="0">
            <a:noFill/>
          </a:ln>
        </p:spPr>
      </p:pic>
      <p:pic>
        <p:nvPicPr>
          <p:cNvPr id="518" name="TextBox 3" descr=""/>
          <p:cNvPicPr/>
          <p:nvPr/>
        </p:nvPicPr>
        <p:blipFill>
          <a:blip r:embed="rId3"/>
          <a:stretch/>
        </p:blipFill>
        <p:spPr>
          <a:xfrm>
            <a:off x="0" y="1755720"/>
            <a:ext cx="905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Guaranteed and Viable Curriculum and Assessments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Guaranteed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have access to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ame essential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gardless of who is teaching the cour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iabl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ing Targets can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ffectively taugh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he time allott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is practice promo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higher level of Equit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all students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an we create a “Stop Doing List”?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current content can be eliminated because it is not essential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nd where can this be implemented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ive Guiding Questions for our Course Team Work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constant collective inquiry into th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a professional responsibility for every educato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help students grow in their own learning? (GQ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create effective learning environments for all our students? (GQ5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re Student Learning Target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which provide the foundation for content, skills and proces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and monitor their own learning targe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common indicators for success and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mmon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authentically determine student achievemen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engage in assessments that clearly inform their level of performan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Each Course Team will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Analyze Student 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order to make adjustments to daily instruction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Classroom Interventions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ing to improved student achievement.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Responsive Teachin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how to re-learn, re-study or re-work to improve their level of achievement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(Learning Adjustment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mmon Formative Assessments (CFA)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e of the most powerful, high-leverage strategies for improving student learning available to schools is the creation of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requent, common, high-quality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teachers who are working collaboratively to help a group of students develop agreed-upon knowledge and skills.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(Fullan, Reeves, Schmoker, Stiggin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wo Types of Assessments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um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n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utopsy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lains why the student failed but the information comes too la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any things in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or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Physical Exam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s timely information to help a struggling learner or enrich a successful learn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ew things 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FAs and Course Team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mmon Formative Assessments… Benefit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fficien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an those created by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quitabl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ccess to the same curriculum and targe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mon pac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determine if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s being learn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nforms the practic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seek assistance from teamma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uilds a team’s ability to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mprove overall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cilita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llective timely respons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ruggling learners (interventions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tocol for Common Formative Assessment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e Common Formativ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ycl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One per quarter… Simple CF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ign each CFA to a Learnin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arget(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the appropriat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Method of Assess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y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roficiency Standard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r each CF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dminister th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sistentl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view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udent Performanc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how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spond to th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Teach and Re-Ass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necessar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“4</a:t>
            </a:r>
            <a:r>
              <a:rPr b="0" lang="en-US" sz="4600" spc="-1" strike="noStrike" baseline="30000">
                <a:solidFill>
                  <a:srgbClr val="675e47"/>
                </a:solidFill>
                <a:latin typeface="Cambria"/>
              </a:rPr>
              <a:t>th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R”… is Responsiv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ading, ‘Riting, and ‘Rithmatic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Yester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igor, Relevance, and Relationships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is a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R fo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morrow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… it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sponsiv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f2b20"/>
                </a:solidFill>
                <a:latin typeface="Calibri"/>
              </a:rPr>
              <a:t>Responsive Teaching is Equitable Teach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eate 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ystem of Responsive Teach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y using CFA Cycl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view Student Performance Dat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Students’ Learning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 are better at CFA Cycles when they are Common…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 from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upport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7656480" cy="2017440"/>
          </a:xfrm>
          <a:prstGeom prst="rect">
            <a:avLst/>
          </a:prstGeom>
          <a:ln w="0">
            <a:noFill/>
          </a:ln>
        </p:spPr>
      </p:pic>
      <p:pic>
        <p:nvPicPr>
          <p:cNvPr id="520" name="Content Placeholder 2" descr=""/>
          <p:cNvPicPr/>
          <p:nvPr/>
        </p:nvPicPr>
        <p:blipFill>
          <a:blip r:embed="rId2"/>
          <a:stretch/>
        </p:blipFill>
        <p:spPr>
          <a:xfrm>
            <a:off x="433440" y="1603440"/>
            <a:ext cx="7643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s Taking Plac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very person associated with student learning may need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define his or her role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comfortable working 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solation will need to work collaborative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accustom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rding authority will need to share 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and people who have operated under certa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ssumption may be asked to change them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” </a:t>
            </a: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urse Teams, Learning Targets and Common Formative Assessments are not just programs to implement, but instead, are a part of an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ongoing proc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bring about significa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inuous improvemen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our teaching and learning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undamental Purpose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 focus on Teaching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ocus on Lear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n emphasis on what is taugh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ixation on what students have lear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the coverage of conten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demonstration of proficienc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individual teacher establishing curriculum documents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engaging with collaborative teams to build essential learning targe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ork of Teacher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solation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only co-plann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lso co-ass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“collaboration lite” on matters unrelated to student achieve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 explicitly focused on issues that directly impact student achieve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assigning priority to curriculum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establishing priority of learning targe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ir own pac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agreeing on common pac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privatization of practic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open sharing of practi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assumption that these are “my kids, and those are your kids”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n assumption that these are “our kids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frequent summative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frequent common formative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to determine which students failed to learn by the deadlin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to identify students in need of additional time and supp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used to reward and punish stud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use to inform and motivate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ing many things infrequently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ing a few things frequentl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 (con’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dividual teacher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developed jointly by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 criteria used in assessing student work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teams clarifying the criteria and ensuring consistency when assessing student wo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over-reliance on one kind of assess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 balanced use of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focusing on average score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monitoring each student’s proficiency in every essential learning targ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So, the Organization of our Work is a follows…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iss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Create an Equitable School that Improves Achievement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trateg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Strengthen and Enrich our Curriculu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establish a  Guaranteed and Viable Learning Experience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ongoing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answering the Five Guiding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fessional Development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offered through meeting the ongoing needs of our Course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curren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oc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on Common Learning Targets and Common Formative Assessment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hicle for Actio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the Course Team…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t Just Makes Sens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t just makes sense that a school committed to helping All Students Learn…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ocus on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ensure students hav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ess to the same curricul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ssess each student on a timely basi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reate systematic response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 additional time and suppo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omplish more working collaborativel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in isol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assess our effectiveness on the basis of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tudent resul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s as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ehicles for Ac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question before us is not…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hat do we need to know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in order to improve?”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ut rather it is…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ill we turn what we already know into </a:t>
            </a:r>
            <a:r>
              <a:rPr b="1" i="1" lang="en-US" sz="3600" spc="-1" strike="noStrike">
                <a:solidFill>
                  <a:srgbClr val="2f2b20"/>
                </a:solidFill>
                <a:latin typeface="Calibri"/>
              </a:rPr>
              <a:t>ACTION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?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731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Objectives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11000" y="1160640"/>
            <a:ext cx="755316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Improve performance and raise achievement for ALL studen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Eliminate the predictability and disproportionality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f students who are in the highest and lowest achieving groups (racial, socio-economic, gender and disability)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vide opportunity/access for ALL student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by examining and eliminating barriers that impact participation. 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District 113 Equity Belief Statement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erms of equity, we believe tha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All students must have access to resources, opportunities and  rigorous curriculum that ensure their succes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lationships form the foundation of an equitable school district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does not have to look the same for each and every student and employee and,  outcomes can still be high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work together to eliminate racial, socio-economic and gender predictability within our system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world class education requires racial consciousness , cross-cultural &amp; disability  awareness and gender equit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measure our progress toward making these beliefs a reality to ensure that “all means all”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Oval 3"/>
          <p:cNvSpPr/>
          <p:nvPr/>
        </p:nvSpPr>
        <p:spPr>
          <a:xfrm>
            <a:off x="2109960" y="992160"/>
            <a:ext cx="4555800" cy="45561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Freeform 7"/>
          <p:cNvSpPr/>
          <p:nvPr/>
        </p:nvSpPr>
        <p:spPr>
          <a:xfrm>
            <a:off x="4314960" y="1325520"/>
            <a:ext cx="1973160" cy="288936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2602080" y="3259080"/>
            <a:ext cx="3412800" cy="1924200"/>
          </a:xfrm>
          <a:custGeom>
            <a:avLst/>
            <a:gdLst>
              <a:gd name="textAreaLeft" fmla="*/ 0 w 3412800"/>
              <a:gd name="textAreaRight" fmla="*/ 3413160 w 3412800"/>
              <a:gd name="textAreaTop" fmla="*/ 0 h 1924200"/>
              <a:gd name="textAreaBottom" fmla="*/ 1924560 h 192420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>
            <a:off x="2346480" y="132552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2730600" y="172872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4211640" y="172548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4570560" y="3095640"/>
            <a:ext cx="197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3325680" y="366084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2757600" y="4943520"/>
            <a:ext cx="23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WordArt 17"/>
          <p:cNvSpPr txBox="1"/>
          <p:nvPr/>
        </p:nvSpPr>
        <p:spPr>
          <a:xfrm>
            <a:off x="2843280" y="1200240"/>
            <a:ext cx="2943000" cy="165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067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 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5" name="WordArt 20"/>
          <p:cNvSpPr txBox="1"/>
          <p:nvPr/>
        </p:nvSpPr>
        <p:spPr>
          <a:xfrm rot="21448800">
            <a:off x="2854440" y="3660480"/>
            <a:ext cx="3020760" cy="170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8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493560" y="147600"/>
            <a:ext cx="7788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400" spc="-1" strike="noStrike">
                <a:solidFill>
                  <a:srgbClr val="f68b32"/>
                </a:solidFill>
                <a:latin typeface="Arial"/>
              </a:rPr>
              <a:t>Strategies to Achieve Equity and Improve Achievement for All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2666880" y="2417760"/>
            <a:ext cx="13687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ong students staff, teacher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s and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4479840" y="2363760"/>
            <a:ext cx="18082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skills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around equity, race, cross-cultural, gender, socio-econom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disability issu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3325680" y="4122720"/>
            <a:ext cx="2224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into account pedagogy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room strategies, content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, and asse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reeform 9"/>
          <p:cNvSpPr/>
          <p:nvPr/>
        </p:nvSpPr>
        <p:spPr>
          <a:xfrm rot="20688600">
            <a:off x="263520" y="124416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6603840" y="1058760"/>
            <a:ext cx="1973520" cy="288936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8"/>
          <p:cNvSpPr/>
          <p:nvPr/>
        </p:nvSpPr>
        <p:spPr>
          <a:xfrm>
            <a:off x="5038560" y="4597560"/>
            <a:ext cx="3413160" cy="192384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493560" y="2320920"/>
            <a:ext cx="1681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Hara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torative Jus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6603840" y="1884240"/>
            <a:ext cx="1959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vention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/Equ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5940360" y="5275440"/>
            <a:ext cx="2156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ve &amp; Summ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892840" y="486576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539640" y="171936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6230880" y="131904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4960" y="23148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9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385640"/>
            <a:ext cx="8255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1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core learning targets (including content, process, and skills).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2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and implement common assessments to measure core learning targets.</a:t>
            </a:r>
            <a:br>
              <a:rPr sz="2000"/>
            </a:b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1600" y="136080"/>
            <a:ext cx="83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35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7800" y="1052640"/>
            <a:ext cx="822960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f68b3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3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provide relevant, timely, and meaningful feedback that increases motivation and achievement of all students regardless of race, gender, disability and socio-economic statu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4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liminate systemic barriers and provide the needed support to students to achieve their highest potential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8b32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5  Classroom practices will change as a result of implementing the Equity Action Pl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Collective Commitments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f our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ght and Loose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culture can be simultaneously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igh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oos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Tig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ddressing critical issues and certain task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 ensure consistency with principles and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Loo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ay-to-day implement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we all must act in order to achieve our Goal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urse Teams participa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and Viable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motes a higher level of Equity for All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work to answer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administer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mmon Formative Assessm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196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Course Teams as the Vehicle for our Work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king together to build shared knowledge on the best way to achieve goals and meet the needs of clients is exactly what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professionals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any field are expected to do… whether it be to cure a patient, win a lawsuit or help all students to lear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very essence of a learning community is a focus on and a commitment to the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learning of each stud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course team is a collaborative group of educators who work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interdependent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to achieve common goals linked to the purpose of learning for all studen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53:52Z</dcterms:created>
  <dc:creator>Roberto Trinidad</dc:creator>
  <dc:description/>
  <dc:language>en-US</dc:language>
  <cp:lastModifiedBy>Swanson, Brad</cp:lastModifiedBy>
  <cp:lastPrinted>2012-06-13T15:45:36Z</cp:lastPrinted>
  <dcterms:modified xsi:type="dcterms:W3CDTF">2012-06-13T17:15:07Z</dcterms:modified>
  <cp:revision>488</cp:revision>
  <dc:subject/>
  <dc:title>Slide 1</dc:title>
</cp:coreProperties>
</file>