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5BF7-225A-4F86-A882-992D6F4C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C17C-76A6-4979-8B7F-211FA161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E93C7-9826-4D89-972D-A3388986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8774-B39C-472F-BFDA-34BCE83B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C5AE9-D5F4-4D7E-AD78-B033431C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97BC6-9A81-453F-A6E1-E90B85D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6BA12-9809-47DE-AC61-49E9B92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0202A-AC77-4ACF-B834-C1F6F95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35F2-82B1-46E7-915F-74422153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BFAE-1772-46A7-9FD5-A2C552EA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86CE2-BC20-4683-8626-D5DBEE41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47DBAE-8635-463D-B6C6-AC71B8A1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4B65-78C8-4EF1-8513-0FE92261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7ECE2-E1B7-45E1-8E38-0046C56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A9E0E-4EC1-4524-9E7B-C21782E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2CDDFF-5757-46CF-96A4-404454D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A166C-766D-4400-ADFA-BA32A877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FEBDB0-E97B-486F-A614-5C0E039B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8DEBCB-7B23-4563-9BE2-69143393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58BBE1-5415-419F-897A-688426A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CF46A-2E53-424A-BC08-BEB367B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3737B9-BDCA-4382-A784-B0EB8BF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40A1A7-7498-4F70-A0C7-C092DD93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83D6-518A-40D7-AA74-3918E17A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F1CD2-2C33-4D17-9C84-50DAB027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8BA2-AD56-4ED8-8509-FA7A4821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0DF62-E28D-4C16-BC60-CF26BA3B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F8F0D-3101-4CB0-9FA6-D3B34D0B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C4834-0692-492D-9687-874A2DD3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B9B8-8FC2-44F3-B337-EB4A75C8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D561-55DB-43DB-B4F9-5EE6AFB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FBCFD-C5AA-4F57-A40D-E81B02D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EC30F-73A1-4B4B-B734-C822A02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07F2-1D28-4817-AB7F-19FFF94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68E4-CDFE-4F36-9E00-D256A7F7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01EF-3919-4B00-8F64-37E92DA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49930-CAEE-4DE6-8006-21061A12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F9033-5201-42CA-AEA2-2AEC0371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0CB64-A2B7-4C2C-8F7F-D89FB46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3CA4A-599E-4604-9E8C-3756AE33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0F8D7-EE67-4CC0-B3C2-4AA819DB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B6B58-8698-4EBD-A150-215FD0F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7237E-5C4F-4718-B13F-38AF7C3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89B1B-8AEB-4109-8B95-F1591D7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6C481-C3D2-4F8C-B8A2-F09B1F2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B379-5DD1-48DB-86A8-898C2AF7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684AC-A33E-46F5-939F-881908DF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691AF-E575-4834-8850-C72FAFA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EA411-849D-4829-A05C-58E4116C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AEF3F-A146-410A-8062-36C0C181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1C2C6-81F2-4BA2-88E6-351D349C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0058-E11D-4871-93EE-2B09BE2B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A9CE-6E11-4BEB-BF78-70234E2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C49-E3F7-4DC7-BCCD-CFB77AC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416-3407-401A-83A1-1F8CEF2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4CB-DA1C-4701-9849-6C10BDF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9F91-009E-47CD-82E7-B09D56B6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D54-A928-47AC-B542-42E9F03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9DB-0C61-4EEE-B0F0-C9A7924E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C3F7-26D7-44D6-A376-733ED5F1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AF5F-7C20-4C28-9C2A-F9B633CF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72F-C42D-4795-8E8E-9EB85ABE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A74E-31A0-4C37-8B2B-A94CD60B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6C69-595B-459D-BAD7-5BE6FB54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3D41-B2B4-4586-96E4-BB0D1ECD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D514-791F-478D-A999-C17BB0FC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2493-A0C0-45C5-999E-7419ECF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FADC-77BE-4009-81B9-F08A229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E297-D260-454B-A5C5-2B2F364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213B-DA57-44C5-B475-6435C60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1DF0-7040-49A6-B143-A5C909B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BA98-EF15-4B93-B5DA-62B1D7B1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680F-0CB2-4F43-8F07-112405B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DC9F-9FDC-4F1D-A873-8CA35CEB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CE17-72FD-47D6-9C44-1F183CD9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4C8A-947D-4A38-AA67-FBFB8C11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4A203-9833-4232-A26D-2401A915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ECD7-1547-4761-BC8C-80445B83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7A45-23CB-4329-B790-B985528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8E18-4C43-427F-9DB4-CD115B7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B705-0212-4FF0-A406-7534641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57AF-8EE3-4EF8-93E5-51FED79F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A91B-43B2-467D-923C-C2ED79C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ABBD-3E14-41ED-93D1-6A5E33EC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08E2-3190-4AA1-888C-05BA4BD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A542-2879-4AEF-9C5B-7DF069B5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3945-7CAB-4775-BF2E-F40640BB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927F-C5B3-4791-960C-9D2F221D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3361-225B-4AFB-A634-AC4C0732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B54D-8D53-469D-9617-E48E469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11B4-019C-47F3-A97A-CC36C5FE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ACFE-5BF1-4557-9261-2A2E8FA9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49028-45A9-4984-BA4F-CC753514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A7E-3D07-4D75-9C3E-9419422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1FACA-5124-4EE5-AE59-1BB3344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6919D-C5C7-4EF2-BBD4-24256B7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E64E-E93F-4509-9784-F7AC001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EFB0-E455-4A03-ADB0-73439C55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FD59-1ED8-413A-8613-C2496A28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3B50-4FE7-4C8E-8E43-772ECFE7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722F-4A3B-493F-957E-3970898C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6D2C-C8F2-45C3-AE05-2B321A7C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3716-19C5-4FA2-B914-634BFB93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C2FB-E8FE-49FF-A247-8047D2E3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1DBF-BF16-42A3-927F-8799E0FF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E27F4-0E87-4D4F-968E-DB1DEC96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2EC3-BFB2-44BE-ACC2-04C4BBAB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1FA3-84F2-451B-A71C-8C65CBE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6D7C5-E855-45C4-B222-84E16C7F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7A7FB-A597-4CA4-9959-977DB93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95B1-5124-46BE-AEFA-41CFA63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599C-6A6F-4605-9FE5-8A5BDCF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C0688-12F6-4014-9B17-DC84B8D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7EFCA-3053-4C8C-B4DA-C6D1C49A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D144-2A55-4FF4-9348-1E86F33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65157-B079-4CB2-930B-3DACEB04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E8915-36E4-4E38-ACC0-E7BC82FC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2997-C90F-4F3B-9D7F-07EEEF0A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B64EA-EFFB-4039-80A2-071F633E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593A-27B0-430B-BF4C-AD704FA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41E19-E44E-40C3-9A8C-9894AA99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B117-7C59-4551-AA9D-C39145C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5460-16BB-47D4-A25F-2D1C018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32DED-4E6D-41CD-B8B3-B57731D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24E0-95A3-4610-8452-471BDBA5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4120A-A6A1-40D4-8931-C5BF3572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CA48-1935-48D4-A56C-9CDF8BA7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437D0-8569-4823-A355-6833E9E1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DA49-96E6-4862-B10A-EA13BFEC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0EE1-16A9-4DBE-BD34-EF61056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3031-D28F-4230-9CC1-1D179785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D362-6545-4759-8567-8ECE1602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52B93-4E41-4913-80D8-0351A72A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8AD1-9DA6-4AD4-AE1A-A1CAC1A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321B4-E533-4D31-8A90-2410A92C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6369-3495-43A7-8EF2-42106D0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074D3-751F-4850-BDD8-141CCD6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9F10-CA57-4270-BD64-07BC261C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4C2C-81D9-4A27-8ED5-039CFE2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3255D-34AE-4538-ABF9-3E404413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EFAEE-0A6D-4F3C-8F6C-726CAB4E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D13B3-C9BE-4988-901F-63E7FC66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3EC50-CD20-4E78-9278-73AD5291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6B4EC-71F9-4EFC-8D3E-8C4B795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462D-E41C-4431-A0D0-C28CB86BF9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861-635C-4A73-AD94-6D2E31A51F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65C-2FDE-4134-B8D7-581FD4749F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8099-563F-4739-9FB7-0D81DCFAFF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166-65E4-4048-86A1-37697CF357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965-8848-45F9-AF1B-4C29183D62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DDFE-9D16-4ABD-9287-A94B8A7183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BAA-FBBB-4D5B-B885-25FEAB002F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0F7-1955-4A54-A3BA-0481EABB4D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082-46C8-43F0-A629-565DA65E6D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3B4E-20EA-4BAF-9F4A-EF871849A2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81E-74B5-4EC1-B72C-2F3EE00FC3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c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/News Rotator/CBO Students.jpg"/>
          <p:cNvPicPr/>
          <p:nvPr/>
        </p:nvPicPr>
        <p:blipFill>
          <a:blip r:embed="rId1"/>
          <a:stretch/>
        </p:blipFill>
        <p:spPr>
          <a:xfrm>
            <a:off x="0" y="285840"/>
            <a:ext cx="8485200" cy="6364080"/>
          </a:xfrm>
          <a:prstGeom prst="rect">
            <a:avLst/>
          </a:prstGeom>
          <a:ln w="0">
            <a:noFill/>
          </a:ln>
        </p:spPr>
      </p:pic>
      <p:pic>
        <p:nvPicPr>
          <p:cNvPr id="517" name="TextBox 2" descr=""/>
          <p:cNvPicPr/>
          <p:nvPr/>
        </p:nvPicPr>
        <p:blipFill>
          <a:blip r:embed="rId2"/>
          <a:stretch/>
        </p:blipFill>
        <p:spPr>
          <a:xfrm>
            <a:off x="0" y="176040"/>
            <a:ext cx="9144000" cy="2322720"/>
          </a:xfrm>
          <a:prstGeom prst="rect">
            <a:avLst/>
          </a:prstGeom>
          <a:ln w="0">
            <a:noFill/>
          </a:ln>
        </p:spPr>
      </p:pic>
      <p:pic>
        <p:nvPicPr>
          <p:cNvPr id="518" name="TextBox 3" descr=""/>
          <p:cNvPicPr/>
          <p:nvPr/>
        </p:nvPicPr>
        <p:blipFill>
          <a:blip r:embed="rId3"/>
          <a:stretch/>
        </p:blipFill>
        <p:spPr>
          <a:xfrm>
            <a:off x="0" y="1755720"/>
            <a:ext cx="905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Guaranteed and Viable Curriculum and Assessments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Guaranteed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have access to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ame essential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gardless of who is teaching the cour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iabl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ing Targets can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ffectively taugh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he time allott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is practice promo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higher level of Equit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all stud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an we create a “Stop Doing List”?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current content can be eliminated because it is not essential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nd where can this be implemented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ive Guiding Questions for our Course Team Work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constant collective inquiry into th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a professional responsibility for every educato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help students grow in their own learning? (GQ4)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create effective learning environments for all our students? (GQ5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hat do we want our students to know and be able to do?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1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re Student Learning Target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which provide the foundation for content, skills and proces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and monitor their own learning targe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know if our students are successful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GQ2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Each Course Team will establish common indicators for success and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Common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authentically determine student achievemen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We will work to ensure that our students engage in assessments that clearly inform their level of performan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Focus of our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do we respond when students are not successful? (GQ3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Teacher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Each Course Team will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nalyze Student 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order to make adjustments to daily instruction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Classroom Interventions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ing to improved student achievement. (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Responsive Teach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Calibri"/>
              </a:rPr>
              <a:t>Student Focus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We will work to ensure that our students fully understand how to re-learn, re-study or re-work to improve their level of achievement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(Learning Adjustmen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mmon Formative Assessments (CFA)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e of the most powerful, high-leverage strategies for improving student learning available to schools is the creation of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requent, common, high-quality formative assessment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teachers who are working collaboratively to help a group of students develop agreed-upon knowledge and skills.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(Fullan, Reeves, Schmoker, Stiggin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wo Types of Assessments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um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n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utopsy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lains why the student failed but the information comes too lat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any things in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Forma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ike a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Physical Exam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;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s timely information to help a struggling learner or enrich a successful learn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sessment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fo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ear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asures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ew things frequentl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FAs and Course Team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mmon Formative Assessments… Benefit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fficient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an those created by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more equitabl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ccess to the same curriculum and targ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mon pac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determine if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s being lear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nforms the practic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individual teach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 seek assistance from teamma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uilds a team’s ability to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improve overall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cilitates 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llective timely response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struggling learners (interventions)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tocol for Common Formative Assessment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reate Common Formativ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ycl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One per quarter… Simple CF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ign each CFA to a Learnin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arget(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the appropriat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Method of Assess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y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roficiency Standard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or each CF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nister the assessme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sistentl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view th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udent Performanc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termine how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spond to the 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Teach and Re-Ass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s necessar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“4</a:t>
            </a:r>
            <a:r>
              <a:rPr b="0" lang="en-US" sz="4600" spc="-1" strike="noStrike" baseline="30000">
                <a:solidFill>
                  <a:srgbClr val="675e47"/>
                </a:solidFill>
                <a:latin typeface="Cambria"/>
              </a:rPr>
              <a:t>th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R”… is Responsiv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ing, ‘Riting, and ‘Rithmatic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Yester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igor, Relevance, and Relationships… the 3 R’s of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d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is a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R fo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morr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… it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sponsiv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f2b20"/>
                </a:solidFill>
                <a:latin typeface="Calibri"/>
              </a:rPr>
              <a:t>Responsive Teaching is Equitable Teach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reate 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ystem of Responsive Teach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y using CFA Cycl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view Student Performance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djust our Students’ Learning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e are better at CFA Cycles when they are Common…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earn from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upport each 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457200" y="-55440"/>
            <a:ext cx="7656480" cy="2017440"/>
          </a:xfrm>
          <a:prstGeom prst="rect">
            <a:avLst/>
          </a:prstGeom>
          <a:ln w="0">
            <a:noFill/>
          </a:ln>
        </p:spPr>
      </p:pic>
      <p:pic>
        <p:nvPicPr>
          <p:cNvPr id="520" name="Content Placeholder 2" descr=""/>
          <p:cNvPicPr/>
          <p:nvPr/>
        </p:nvPicPr>
        <p:blipFill>
          <a:blip r:embed="rId2"/>
          <a:stretch/>
        </p:blipFill>
        <p:spPr>
          <a:xfrm>
            <a:off x="433440" y="1603440"/>
            <a:ext cx="7643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s Taking Plac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very person associated with student learning may need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re-define his or her role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comfortable working 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solation will need to work collaborative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those accustom to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rding authority will need to share 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… and people who have operated under certai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ssumption may be asked to change them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” </a:t>
            </a: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urse Teams, Learning Targets and Common Formative Assessments are not just programs to implement, but instead, are a part of an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ongoing proces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bring about significan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inuous improvemen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o our teaching and learning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undamental Purpos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 focus on Teaching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ocus on Lear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an emphasis on what is taugh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fixation on what students have learn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the coverage of content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a demonstration of proficienc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rom individual teacher establishing curriculum documents…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o engaging with collaborative teams to build essential learning targe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Work of Teacher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solation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only co-plann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lso co-ass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“collaboration lite” on matters unrelated to student achieve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on explicitly focused on issues that directly impact student achieve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assigning priority to curriculum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establishing priority of learning targe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ir own pacing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collaborative teams agreeing on common pac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privatization of practic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open sharing of practi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assumption that these are “my kids, and those are your kids”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n assumption that these are “our kids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frequent summative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frequent common formative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to determine which students failed to learn by the deadline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to identify students in need of additional time and supp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ments used to reward and punish stud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use to inform and motivate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ssessing many things infrequently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ing a few things frequentl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 Shift in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Use of Assessment: (con’t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individual teacher assessment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ssessments developed jointly by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each teacher determining the criteria used in assessing student work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teams clarifying the criteria and ensuring consistency when assessing student wo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an over-reliance on one kind of assessment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a balanced use of assess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om focusing on average scores…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o monitoring each student’s proficiency in every essential learning targ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18960" indent="-212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So, the Organization of our Work is a follows…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iss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Create an Equitable School that Improves Achievement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Strateg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Strengthen and Enrich our Curriculu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to establish a  Guaranteed and Viable Learning Experience for All Stud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ongoing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Wor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answering the Five Guiding Question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fessional Development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offered through meeting the ongoing needs of our Course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curren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Foc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s on Common Learning Targets and Common Formative Assessment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ur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hicle for Actio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s the Course Team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t Just Makes Sense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It just makes sense that a school committed to helping All Students Learn…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ocus on learning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teach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ensure students hav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ess to the same curricul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ssess each student on a timely basi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reate systematic response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vide additional time and suppor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accomplish more working collaboratively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ther than in isol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ould assess our effectiveness on the basis of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student resul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ourse Teams as the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Vehicles for Ac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The question before us is not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hat do we need to know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in order to improve?”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but rather it is…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Will we turn what we already know into </a:t>
            </a:r>
            <a:r>
              <a:rPr b="1" i="1" lang="en-US" sz="3600" spc="-1" strike="noStrike">
                <a:solidFill>
                  <a:srgbClr val="2f2b20"/>
                </a:solidFill>
                <a:latin typeface="Calibri"/>
              </a:rPr>
              <a:t>ACTION</a:t>
            </a: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?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42800" y="731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75e47"/>
                </a:solidFill>
                <a:latin typeface="Cambria"/>
              </a:rPr>
              <a:t>Objective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11000" y="1160640"/>
            <a:ext cx="755316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Improve performance and raise achievement for ALL students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Eliminate the predictability and disproportionality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of students who are in the highest and lowest achieving groups (racial, socio-economic, gender and disability)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b20"/>
                </a:solidFill>
                <a:latin typeface="Calibri"/>
              </a:rPr>
              <a:t>Provide opportunity/access for ALL students </a:t>
            </a: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by examining and eliminating barriers that impact participation.  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District 113 Equity Belief Statement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n terms of equity, we believe tha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All students must have access to resources, opportunities and  rigorous curriculum that ensure their suc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lationships form the foundation of an equitable school district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does not have to look the same for each and every student and employee and,  outcomes can still be high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work together to eliminate racial, socio-economic and gender predictability within our system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world class education requires racial consciousness , cross-cultural &amp; disability  awareness and gender equit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We must measure our progress toward making these beliefs a reality to ensure that “all means all”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Oval 3"/>
          <p:cNvSpPr/>
          <p:nvPr/>
        </p:nvSpPr>
        <p:spPr>
          <a:xfrm>
            <a:off x="2109960" y="992160"/>
            <a:ext cx="4555800" cy="45561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4314960" y="1325520"/>
            <a:ext cx="1973160" cy="288936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2602080" y="3259080"/>
            <a:ext cx="3412800" cy="1924200"/>
          </a:xfrm>
          <a:custGeom>
            <a:avLst/>
            <a:gdLst>
              <a:gd name="textAreaLeft" fmla="*/ 0 w 3412800"/>
              <a:gd name="textAreaRight" fmla="*/ 3413160 w 3412800"/>
              <a:gd name="textAreaTop" fmla="*/ 0 h 1924200"/>
              <a:gd name="textAreaBottom" fmla="*/ 1924560 h 192420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2346480" y="132552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2730600" y="172872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4211640" y="172548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4570560" y="3095640"/>
            <a:ext cx="197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3325680" y="366084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2757600" y="4943520"/>
            <a:ext cx="23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2843280" y="1200240"/>
            <a:ext cx="2943000" cy="165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67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 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5" name="WordArt 20"/>
          <p:cNvSpPr txBox="1"/>
          <p:nvPr/>
        </p:nvSpPr>
        <p:spPr>
          <a:xfrm rot="21448800">
            <a:off x="2854440" y="3660480"/>
            <a:ext cx="3020760" cy="170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38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75e47"/>
                  </a:solidFill>
                  <a:miter/>
                </a:ln>
                <a:solidFill>
                  <a:srgbClr val="675e47"/>
                </a:solidFill>
                <a:latin typeface="Arial"/>
              </a:rPr>
              <a:t>Culture—The Day-to-Day Experience</a:t>
            </a:r>
            <a:endParaRPr b="0" lang="en-US" sz="2800" spc="1" strike="noStrike">
              <a:ln w="9360">
                <a:solidFill>
                  <a:srgbClr val="675e47"/>
                </a:solidFill>
                <a:miter/>
              </a:ln>
              <a:solidFill>
                <a:srgbClr val="675e47"/>
              </a:solidFill>
              <a:latin typeface="Arial"/>
              <a:ea typeface="Arial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493560" y="147600"/>
            <a:ext cx="778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400" spc="-1" strike="noStrike">
                <a:solidFill>
                  <a:srgbClr val="f68b32"/>
                </a:solidFill>
                <a:latin typeface="Arial"/>
              </a:rPr>
              <a:t>Strategies to Achieve Equity and Improve Achievement for Al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2666880" y="2417760"/>
            <a:ext cx="13687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ong students staff, teacher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s and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4479840" y="2363760"/>
            <a:ext cx="1808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skills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around equity, race, cross-cultural, gender, socio-econom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disability issu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3325680" y="4122720"/>
            <a:ext cx="2224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into account pedagogy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room strategies, content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, and asse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Freeform 9"/>
          <p:cNvSpPr/>
          <p:nvPr/>
        </p:nvSpPr>
        <p:spPr>
          <a:xfrm rot="20688600">
            <a:off x="263520" y="1244160"/>
            <a:ext cx="1984320" cy="2889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6603840" y="1058760"/>
            <a:ext cx="1973520" cy="288936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2889360"/>
              <a:gd name="textAreaBottom" fmla="*/ 2889720 h 2889360"/>
            </a:gdLst>
            <a:ahLst/>
            <a:rect l="textAreaLeft" t="textAreaTop" r="textAreaRight" b="textAreaBottom"/>
            <a:pathLst>
              <a:path w="174" h="260">
                <a:moveTo>
                  <a:pt x="150" y="260"/>
                </a:moveTo>
                <a:cubicBezTo>
                  <a:pt x="165" y="234"/>
                  <a:pt x="174" y="204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150" y="260"/>
                </a:lnTo>
                <a:close/>
              </a:path>
            </a:pathLst>
          </a:custGeom>
          <a:solidFill>
            <a:srgbClr val="d565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8"/>
          <p:cNvSpPr/>
          <p:nvPr/>
        </p:nvSpPr>
        <p:spPr>
          <a:xfrm>
            <a:off x="5038560" y="4597560"/>
            <a:ext cx="3413160" cy="192384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493560" y="2320920"/>
            <a:ext cx="1681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Harass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torative Jus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2"/>
          <p:cNvSpPr/>
          <p:nvPr/>
        </p:nvSpPr>
        <p:spPr>
          <a:xfrm>
            <a:off x="6603840" y="1884240"/>
            <a:ext cx="1959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vention Strateg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/Equ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5940360" y="5275440"/>
            <a:ext cx="2156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560" rIns="43560" tIns="43560" bIns="43560" anchor="t">
            <a:spAutoFit/>
          </a:bodyPr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ve &amp; Summ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ffffff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892840" y="4865760"/>
            <a:ext cx="17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ngthen and Enrich Curricul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539640" y="171936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engthen Relationshi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6230880" y="1319040"/>
            <a:ext cx="171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as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4960" y="23148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9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385640"/>
            <a:ext cx="8255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1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core learning targets (including content, process, and skills).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2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develop and implement common assessments to measure core learning targets.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01600" y="136080"/>
            <a:ext cx="83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75e47"/>
                </a:solidFill>
                <a:latin typeface="Cambria"/>
              </a:rPr>
              <a:t>Strategy 3: Strengthen and Enrich Curriculum </a:t>
            </a:r>
            <a:br>
              <a:rPr sz="3500"/>
            </a:br>
            <a:r>
              <a:rPr b="0" lang="en-US" sz="1400" spc="-1" strike="noStrike">
                <a:solidFill>
                  <a:srgbClr val="675e47"/>
                </a:solidFill>
                <a:latin typeface="Cambria"/>
              </a:rPr>
              <a:t>Characteristics of Effective District 113 Educators</a:t>
            </a:r>
            <a:endParaRPr b="0" lang="en-US" sz="1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7800" y="105264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68b32"/>
                </a:solidFill>
                <a:latin typeface="Calibri"/>
              </a:rPr>
              <a:t>Goals</a:t>
            </a:r>
            <a:r>
              <a:rPr b="0" lang="en-US" sz="2200" spc="-1" strike="noStrike">
                <a:solidFill>
                  <a:srgbClr val="f68b3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3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eachers will provide relevant, timely, and meaningful feedback that increases motivation and achievement of all students regardless of race, gender, disability and socio-economic statu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b0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4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Eliminate systemic barriers and provide the needed support to students to achieve their highest potential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8b32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3.5  Classroom practices will change as a result of implementing the Equity Action Pl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e Collective Commitments </a:t>
            </a:r>
            <a:br>
              <a:rPr sz="4600"/>
            </a:b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of our Work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ght and Loose”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chool culture can be simultaneously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tight </a:t>
            </a: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and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loos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Tig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en addressing critical issues and certain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 ensure consistency with principles and pract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2b20"/>
                </a:solidFill>
                <a:latin typeface="Calibri"/>
              </a:rPr>
              <a:t>Loo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ay-to-day imple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How we all must act in order to achieve our Goals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b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urse Teams participa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Guaranteed and Viable Curriculu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motes a higher level of Equity for All Stud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work to answer the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Five Guiding Question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 Teachers will administer </a:t>
            </a: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Common Formative Assess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84600" indent="-22392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196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Course Teams as the Vehicle for our Work: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king together to build shared knowledge on the best way to achieve goals and meet the needs of clients is exactly what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professionals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any field are expected to do… whether it be to cure a patient, win a lawsuit or help all students to lear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very essence of a learning community is a focus on and a commitment to the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learning of each stud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course team is a collaborative group of educators who work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interdependently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to achieve common goals linked to the purpose of learning for all student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Learning by Do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3:52Z</dcterms:created>
  <dc:creator>Roberto Trinidad</dc:creator>
  <dc:description/>
  <dc:language>en-US</dc:language>
  <cp:lastModifiedBy>Swanson, Brad</cp:lastModifiedBy>
  <cp:lastPrinted>2012-06-13T15:45:36Z</cp:lastPrinted>
  <dcterms:modified xsi:type="dcterms:W3CDTF">2012-06-13T17:15:07Z</dcterms:modified>
  <cp:revision>488</cp:revision>
  <dc:subject/>
  <dc:title>Slide 1</dc:title>
</cp:coreProperties>
</file>